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CHIMES.WAV" ContentType="audio/x-wav"/>
  <Override PartName="/ppt/media/image6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828440" y="422712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42052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19904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6928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82844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19904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6928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2052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2.xml"/><Relationship Id="rId3" Type="http://schemas.openxmlformats.org/officeDocument/2006/relationships/slide" Target="slide13.xml"/><Relationship Id="rId4" Type="http://schemas.openxmlformats.org/officeDocument/2006/relationships/slide" Target="slide17.xml"/><Relationship Id="rId5" Type="http://schemas.openxmlformats.org/officeDocument/2006/relationships/slide" Target="slide19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" Target="slide22.xml"/><Relationship Id="rId9" Type="http://schemas.openxmlformats.org/officeDocument/2006/relationships/slide" Target="slide23.xml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752480" cy="6858000"/>
            <a:chOff x="0" y="0"/>
            <a:chExt cx="175248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752480" cy="68580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 txBox="1"/>
            <p:nvPr/>
          </p:nvSpPr>
          <p:spPr>
            <a:xfrm>
              <a:off x="376200" y="422280"/>
              <a:ext cx="965160" cy="9493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CHAPTE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4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360" y="5967360"/>
              <a:ext cx="155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8920" y="5030640"/>
              <a:ext cx="155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4668840" y="4441680"/>
            <a:ext cx="4343400" cy="2362320"/>
            <a:chOff x="4668840" y="4441680"/>
            <a:chExt cx="4343400" cy="2362320"/>
          </a:xfrm>
        </p:grpSpPr>
        <p:sp>
          <p:nvSpPr>
            <p:cNvPr id="6" name=""/>
            <p:cNvSpPr/>
            <p:nvPr/>
          </p:nvSpPr>
          <p:spPr>
            <a:xfrm>
              <a:off x="4668840" y="6705720"/>
              <a:ext cx="4343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915400" y="4441680"/>
              <a:ext cx="0" cy="236232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82520" y="6442200"/>
            <a:ext cx="14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4 - </a:t>
            </a:r>
            <a:fld id="{5293704E-3309-4FD0-A1FE-347FE7CA33C9}" type="slidenum"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740240" y="6588000"/>
            <a:ext cx="241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Copyright McGraw-Hill/Irwin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1135080"/>
            <a:ext cx="1738440" cy="27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Capitalist Ide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Four Fundamental Ques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What to Produce?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How to Produce?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Who Gets Production?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Can System Accommodate Change?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Invisible H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Key Term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>
            <a:hlinkClick r:id="" action="ppaction://hlinkshowjump?jump=endshow"/>
          </p:cNvPr>
          <p:cNvSpPr/>
          <p:nvPr/>
        </p:nvSpPr>
        <p:spPr>
          <a:xfrm>
            <a:off x="1020600" y="6051600"/>
            <a:ext cx="609840" cy="328680"/>
          </a:xfrm>
          <a:custGeom>
            <a:avLst/>
            <a:gdLst>
              <a:gd name="textAreaLeft" fmla="*/ 21240 w 609840"/>
              <a:gd name="textAreaRight" fmla="*/ 588600 w 609840"/>
              <a:gd name="textAreaTop" fmla="*/ 21240 h 328680"/>
              <a:gd name="textAreaBottom" fmla="*/ 307440 h 328680"/>
            </a:gdLst>
            <a:ahLst/>
            <a:rect l="textAreaLeft" t="textAreaTop" r="textAreaRight" b="textAreaBottom"/>
            <a:pathLst>
              <a:path w="40057" h="21600">
                <a:moveTo>
                  <a:pt x="0" y="0"/>
                </a:moveTo>
                <a:lnTo>
                  <a:pt x="40057" y="0"/>
                </a:lnTo>
                <a:lnTo>
                  <a:pt x="40057" y="21600"/>
                </a:lnTo>
                <a:lnTo>
                  <a:pt x="0" y="21600"/>
                </a:lnTo>
                <a:close/>
              </a:path>
              <a:path fill="lightenLess" w="40057" h="21600">
                <a:moveTo>
                  <a:pt x="0" y="0"/>
                </a:moveTo>
                <a:lnTo>
                  <a:pt x="40057" y="0"/>
                </a:lnTo>
                <a:lnTo>
                  <a:pt x="38657" y="1400"/>
                </a:lnTo>
                <a:lnTo>
                  <a:pt x="1400" y="1400"/>
                </a:lnTo>
                <a:close/>
              </a:path>
              <a:path fill="darken" w="40057" h="21600">
                <a:moveTo>
                  <a:pt x="40057" y="0"/>
                </a:moveTo>
                <a:lnTo>
                  <a:pt x="40057" y="21600"/>
                </a:lnTo>
                <a:lnTo>
                  <a:pt x="38657" y="20200"/>
                </a:lnTo>
                <a:lnTo>
                  <a:pt x="38657" y="1400"/>
                </a:lnTo>
                <a:close/>
              </a:path>
              <a:path fill="darkenLess" w="40057" h="21600">
                <a:moveTo>
                  <a:pt x="400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57" y="20200"/>
                </a:lnTo>
                <a:close/>
              </a:path>
              <a:path fill="lighten" w="400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57" h="21600">
                <a:moveTo>
                  <a:pt x="23527" y="10800"/>
                </a:moveTo>
                <a:lnTo>
                  <a:pt x="13022" y="17806"/>
                </a:lnTo>
                <a:lnTo>
                  <a:pt x="13022" y="3794"/>
                </a:lnTo>
                <a:close/>
              </a:path>
              <a:path fill="darken" w="40057" h="21600">
                <a:moveTo>
                  <a:pt x="25373" y="3794"/>
                </a:moveTo>
                <a:lnTo>
                  <a:pt x="25373" y="17806"/>
                </a:lnTo>
                <a:lnTo>
                  <a:pt x="27035" y="17806"/>
                </a:lnTo>
                <a:lnTo>
                  <a:pt x="27035" y="3794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>
            <a:hlinkClick r:id="" action="ppaction://hlinkshowjump?jump=previousslide"/>
          </p:cNvPr>
          <p:cNvSpPr/>
          <p:nvPr/>
        </p:nvSpPr>
        <p:spPr>
          <a:xfrm>
            <a:off x="55440" y="5432400"/>
            <a:ext cx="89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Previ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Sl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>
            <a:hlinkClick r:id="" action="ppaction://hlinkshowjump?jump=nextslide"/>
          </p:cNvPr>
          <p:cNvSpPr/>
          <p:nvPr/>
        </p:nvSpPr>
        <p:spPr>
          <a:xfrm>
            <a:off x="974880" y="5429160"/>
            <a:ext cx="70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Sl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 flipH="1">
            <a:off x="176040" y="5137200"/>
            <a:ext cx="609840" cy="317520"/>
          </a:xfrm>
          <a:custGeom>
            <a:avLst/>
            <a:gdLst>
              <a:gd name="textAreaLeft" fmla="*/ 20520 w 609840"/>
              <a:gd name="textAreaRight" fmla="*/ 589320 w 60984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41463" h="21600">
                <a:moveTo>
                  <a:pt x="0" y="0"/>
                </a:moveTo>
                <a:lnTo>
                  <a:pt x="41463" y="0"/>
                </a:lnTo>
                <a:lnTo>
                  <a:pt x="41463" y="21600"/>
                </a:lnTo>
                <a:lnTo>
                  <a:pt x="0" y="21600"/>
                </a:lnTo>
                <a:close/>
              </a:path>
              <a:path fill="lightenLess" w="41463" h="21600">
                <a:moveTo>
                  <a:pt x="0" y="0"/>
                </a:moveTo>
                <a:lnTo>
                  <a:pt x="41463" y="0"/>
                </a:lnTo>
                <a:lnTo>
                  <a:pt x="40063" y="1400"/>
                </a:lnTo>
                <a:lnTo>
                  <a:pt x="1400" y="1400"/>
                </a:lnTo>
                <a:close/>
              </a:path>
              <a:path fill="darken" w="41463" h="21600">
                <a:moveTo>
                  <a:pt x="41463" y="0"/>
                </a:moveTo>
                <a:lnTo>
                  <a:pt x="41463" y="21600"/>
                </a:lnTo>
                <a:lnTo>
                  <a:pt x="40063" y="20200"/>
                </a:lnTo>
                <a:lnTo>
                  <a:pt x="40063" y="1400"/>
                </a:lnTo>
                <a:close/>
              </a:path>
              <a:path fill="darkenLess" w="41463" h="21600">
                <a:moveTo>
                  <a:pt x="414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063" y="20200"/>
                </a:lnTo>
                <a:close/>
              </a:path>
              <a:path fill="lighten" w="414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463" h="21600">
                <a:moveTo>
                  <a:pt x="13725" y="3794"/>
                </a:moveTo>
                <a:lnTo>
                  <a:pt x="27738" y="10800"/>
                </a:lnTo>
                <a:lnTo>
                  <a:pt x="13725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23840" y="5140440"/>
            <a:ext cx="609840" cy="317520"/>
          </a:xfrm>
          <a:custGeom>
            <a:avLst/>
            <a:gdLst>
              <a:gd name="textAreaLeft" fmla="*/ 20520 w 609840"/>
              <a:gd name="textAreaRight" fmla="*/ 589320 w 60984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41463" h="21600">
                <a:moveTo>
                  <a:pt x="0" y="0"/>
                </a:moveTo>
                <a:lnTo>
                  <a:pt x="41463" y="0"/>
                </a:lnTo>
                <a:lnTo>
                  <a:pt x="41463" y="21600"/>
                </a:lnTo>
                <a:lnTo>
                  <a:pt x="0" y="21600"/>
                </a:lnTo>
                <a:close/>
              </a:path>
              <a:path fill="lightenLess" w="41463" h="21600">
                <a:moveTo>
                  <a:pt x="0" y="0"/>
                </a:moveTo>
                <a:lnTo>
                  <a:pt x="41463" y="0"/>
                </a:lnTo>
                <a:lnTo>
                  <a:pt x="40063" y="1400"/>
                </a:lnTo>
                <a:lnTo>
                  <a:pt x="1400" y="1400"/>
                </a:lnTo>
                <a:close/>
              </a:path>
              <a:path fill="darken" w="41463" h="21600">
                <a:moveTo>
                  <a:pt x="41463" y="0"/>
                </a:moveTo>
                <a:lnTo>
                  <a:pt x="41463" y="21600"/>
                </a:lnTo>
                <a:lnTo>
                  <a:pt x="40063" y="20200"/>
                </a:lnTo>
                <a:lnTo>
                  <a:pt x="40063" y="1400"/>
                </a:lnTo>
                <a:close/>
              </a:path>
              <a:path fill="darkenLess" w="41463" h="21600">
                <a:moveTo>
                  <a:pt x="414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063" y="20200"/>
                </a:lnTo>
                <a:close/>
              </a:path>
              <a:path fill="lighten" w="414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463" h="21600">
                <a:moveTo>
                  <a:pt x="13725" y="3794"/>
                </a:moveTo>
                <a:lnTo>
                  <a:pt x="27738" y="10800"/>
                </a:lnTo>
                <a:lnTo>
                  <a:pt x="13725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>
            <a:hlinkClick r:id="" action="ppaction://hlinkshowjump?jump=endshow"/>
          </p:cNvPr>
          <p:cNvSpPr/>
          <p:nvPr/>
        </p:nvSpPr>
        <p:spPr>
          <a:xfrm>
            <a:off x="160200" y="5992920"/>
            <a:ext cx="68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Sh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image" Target="../media/image2.jpeg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2819359/student_view0/chapter4/origin_of_the_idea.html" TargetMode="External"/><Relationship Id="rId2" Type="http://schemas.openxmlformats.org/officeDocument/2006/relationships/image" Target="../media/image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1.xml"/><Relationship Id="rId12" Type="http://schemas.openxmlformats.org/officeDocument/2006/relationships/slide" Target="slide13.xml"/><Relationship Id="rId13" Type="http://schemas.openxmlformats.org/officeDocument/2006/relationships/slide" Target="slide17.xml"/><Relationship Id="rId14" Type="http://schemas.openxmlformats.org/officeDocument/2006/relationships/slide" Target="slide17.xml"/><Relationship Id="rId15" Type="http://schemas.openxmlformats.org/officeDocument/2006/relationships/slide" Target="slide18.xml"/><Relationship Id="rId16" Type="http://schemas.openxmlformats.org/officeDocument/2006/relationships/slide" Target="slide17.xml"/><Relationship Id="rId17" Type="http://schemas.openxmlformats.org/officeDocument/2006/relationships/slide" Target="slide17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8.xml"/><Relationship Id="rId21" Type="http://schemas.openxmlformats.org/officeDocument/2006/relationships/slide" Target="slide21.xml"/><Relationship Id="rId22" Type="http://schemas.openxmlformats.org/officeDocument/2006/relationships/slide" Target="slide21.xml"/><Relationship Id="rId23" Type="http://schemas.openxmlformats.org/officeDocument/2006/relationships/slide" Target="slide22.xml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audio" Target="../media/CHIMES.WAV"/><Relationship Id="rId2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image" Target="../media/image2.jpeg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2157120" y="665280"/>
            <a:ext cx="6324840" cy="5502240"/>
            <a:chOff x="2157120" y="665280"/>
            <a:chExt cx="6324840" cy="5502240"/>
          </a:xfrm>
        </p:grpSpPr>
        <p:sp>
          <p:nvSpPr>
            <p:cNvPr id="56" name=""/>
            <p:cNvSpPr/>
            <p:nvPr/>
          </p:nvSpPr>
          <p:spPr>
            <a:xfrm flipH="1">
              <a:off x="6342120" y="1827360"/>
              <a:ext cx="2139840" cy="434016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5640120" y="1949400"/>
              <a:ext cx="2741400" cy="390204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4750920" y="2093760"/>
              <a:ext cx="3333960" cy="374832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3848040" y="1838160"/>
              <a:ext cx="3849840" cy="395928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3597120" y="1758960"/>
              <a:ext cx="3864240" cy="352728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2999880" y="1441440"/>
              <a:ext cx="4357800" cy="336852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754360" y="806400"/>
              <a:ext cx="4867200" cy="324000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157120" y="665280"/>
              <a:ext cx="5288040" cy="335124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773360" y="52560"/>
            <a:ext cx="3367800" cy="2713680"/>
            <a:chOff x="1773360" y="52560"/>
            <a:chExt cx="3367800" cy="2713680"/>
          </a:xfrm>
        </p:grpSpPr>
        <p:sp>
          <p:nvSpPr>
            <p:cNvPr id="65" name=""/>
            <p:cNvSpPr/>
            <p:nvPr/>
          </p:nvSpPr>
          <p:spPr>
            <a:xfrm>
              <a:off x="2248920" y="52560"/>
              <a:ext cx="1277640" cy="27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2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1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692800" y="1292400"/>
              <a:ext cx="2448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 H A P T E 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73360" y="1722600"/>
              <a:ext cx="33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726160" y="63360"/>
            <a:ext cx="3201840" cy="36054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38160" y="3522240"/>
            <a:ext cx="671544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cc0000"/>
                </a:solidFill>
                <a:latin typeface="Arial"/>
              </a:rPr>
              <a:t>The</a:t>
            </a:r>
            <a:br>
              <a:rPr sz="6400"/>
            </a:br>
            <a:r>
              <a:rPr b="1" lang="en-US" sz="6400" spc="-1" strike="noStrike">
                <a:solidFill>
                  <a:srgbClr val="cc0000"/>
                </a:solidFill>
                <a:latin typeface="Arial"/>
              </a:rPr>
              <a:t>    Market</a:t>
            </a:r>
            <a:br>
              <a:rPr sz="6400"/>
            </a:br>
            <a:r>
              <a:rPr b="1" lang="en-US" sz="6400" spc="-1" strike="noStrike">
                <a:solidFill>
                  <a:srgbClr val="cc0000"/>
                </a:solidFill>
                <a:latin typeface="Arial"/>
              </a:rPr>
              <a:t>        System</a:t>
            </a:r>
            <a:endParaRPr b="0" lang="en-US" sz="6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870120" y="957240"/>
            <a:ext cx="62226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Brush Script MT"/>
              </a:rPr>
              <a:t>Other Characteristic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128680" y="2092320"/>
            <a:ext cx="6662880" cy="2089080"/>
            <a:chOff x="2128680" y="2092320"/>
            <a:chExt cx="6662880" cy="2089080"/>
          </a:xfrm>
        </p:grpSpPr>
        <p:sp>
          <p:nvSpPr>
            <p:cNvPr id="253" name=""/>
            <p:cNvSpPr/>
            <p:nvPr/>
          </p:nvSpPr>
          <p:spPr>
            <a:xfrm>
              <a:off x="2128680" y="3262320"/>
              <a:ext cx="6662880" cy="919080"/>
            </a:xfrm>
            <a:custGeom>
              <a:avLst/>
              <a:gdLst/>
              <a:ahLst/>
              <a:rect l="l" t="t" r="r" b="b"/>
              <a:pathLst>
                <a:path w="4701" h="579">
                  <a:moveTo>
                    <a:pt x="0" y="0"/>
                  </a:moveTo>
                  <a:lnTo>
                    <a:pt x="2349" y="578"/>
                  </a:lnTo>
                  <a:lnTo>
                    <a:pt x="470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28680" y="2197080"/>
              <a:ext cx="6662880" cy="1066680"/>
            </a:xfrm>
            <a:custGeom>
              <a:avLst/>
              <a:gdLst/>
              <a:ahLst/>
              <a:rect l="l" t="t" r="r" b="b"/>
              <a:pathLst>
                <a:path w="4701" h="672">
                  <a:moveTo>
                    <a:pt x="0" y="671"/>
                  </a:moveTo>
                  <a:lnTo>
                    <a:pt x="0" y="0"/>
                  </a:lnTo>
                  <a:lnTo>
                    <a:pt x="4700" y="0"/>
                  </a:lnTo>
                  <a:lnTo>
                    <a:pt x="4700" y="671"/>
                  </a:lnTo>
                  <a:lnTo>
                    <a:pt x="0" y="671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71840" y="2092320"/>
              <a:ext cx="574992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</a:rPr>
                <a:t>Reliance on Technolog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</a:rPr>
                <a:t>and Capital Good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138400" y="3639960"/>
            <a:ext cx="6662880" cy="1070280"/>
            <a:chOff x="2138400" y="3639960"/>
            <a:chExt cx="6662880" cy="1070280"/>
          </a:xfrm>
        </p:grpSpPr>
        <p:sp>
          <p:nvSpPr>
            <p:cNvPr id="257" name=""/>
            <p:cNvSpPr/>
            <p:nvPr/>
          </p:nvSpPr>
          <p:spPr>
            <a:xfrm>
              <a:off x="2138400" y="3639960"/>
              <a:ext cx="6662880" cy="1070280"/>
            </a:xfrm>
            <a:custGeom>
              <a:avLst/>
              <a:gdLst/>
              <a:ahLst/>
              <a:rect l="l" t="t" r="r" b="b"/>
              <a:pathLst>
                <a:path w="4701" h="674">
                  <a:moveTo>
                    <a:pt x="0" y="673"/>
                  </a:moveTo>
                  <a:lnTo>
                    <a:pt x="0" y="0"/>
                  </a:lnTo>
                  <a:lnTo>
                    <a:pt x="4700" y="0"/>
                  </a:lnTo>
                  <a:lnTo>
                    <a:pt x="4700" y="673"/>
                  </a:lnTo>
                  <a:lnTo>
                    <a:pt x="0" y="673"/>
                  </a:lnTo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cc99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43080" y="3859200"/>
              <a:ext cx="65563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</a:rPr>
                <a:t>Specialization and Efficienc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768760" y="4673520"/>
            <a:ext cx="59562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Geographic Special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913040" y="4756320"/>
          <a:ext cx="550800" cy="188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3040" y="4756320"/>
                    <a:ext cx="55080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4525920" y="5421240"/>
          <a:ext cx="1449360" cy="100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25920" y="5421240"/>
                    <a:ext cx="14493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7230960" y="5275440"/>
          <a:ext cx="1057320" cy="133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30960" y="5275440"/>
                    <a:ext cx="105732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6" name="" descr=""/>
          <p:cNvPicPr/>
          <p:nvPr/>
        </p:nvPicPr>
        <p:blipFill>
          <a:blip r:embed="rId7"/>
          <a:stretch/>
        </p:blipFill>
        <p:spPr>
          <a:xfrm>
            <a:off x="8480520" y="6188040"/>
            <a:ext cx="298440" cy="2746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996200" y="247680"/>
            <a:ext cx="6816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APITALIST IDE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2138400" y="4167360"/>
            <a:ext cx="6662880" cy="1977840"/>
            <a:chOff x="2138400" y="4167360"/>
            <a:chExt cx="6662880" cy="1977840"/>
          </a:xfrm>
        </p:grpSpPr>
        <p:sp>
          <p:nvSpPr>
            <p:cNvPr id="269" name=""/>
            <p:cNvSpPr/>
            <p:nvPr/>
          </p:nvSpPr>
          <p:spPr>
            <a:xfrm>
              <a:off x="2151000" y="4167360"/>
              <a:ext cx="6650280" cy="919080"/>
            </a:xfrm>
            <a:custGeom>
              <a:avLst/>
              <a:gdLst/>
              <a:ahLst/>
              <a:rect l="l" t="t" r="r" b="b"/>
              <a:pathLst>
                <a:path w="4701" h="579">
                  <a:moveTo>
                    <a:pt x="0" y="578"/>
                  </a:moveTo>
                  <a:lnTo>
                    <a:pt x="2349" y="0"/>
                  </a:lnTo>
                  <a:lnTo>
                    <a:pt x="4700" y="578"/>
                  </a:lnTo>
                  <a:lnTo>
                    <a:pt x="0" y="57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38400" y="5078520"/>
              <a:ext cx="6662880" cy="1066680"/>
            </a:xfrm>
            <a:custGeom>
              <a:avLst/>
              <a:gdLst/>
              <a:ahLst/>
              <a:rect l="l" t="t" r="r" b="b"/>
              <a:pathLst>
                <a:path w="4701" h="672">
                  <a:moveTo>
                    <a:pt x="0" y="671"/>
                  </a:moveTo>
                  <a:lnTo>
                    <a:pt x="0" y="0"/>
                  </a:lnTo>
                  <a:lnTo>
                    <a:pt x="4700" y="0"/>
                  </a:lnTo>
                  <a:lnTo>
                    <a:pt x="4700" y="671"/>
                  </a:lnTo>
                  <a:lnTo>
                    <a:pt x="0" y="671"/>
                  </a:lnTo>
                </a:path>
              </a:pathLst>
            </a:custGeom>
            <a:solidFill>
              <a:srgbClr val="ff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70240" y="5248440"/>
              <a:ext cx="439740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Arial"/>
                </a:rPr>
                <a:t>Use of Money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870120" y="957240"/>
            <a:ext cx="62226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Brush Script MT"/>
              </a:rPr>
              <a:t>Other Characteristic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128680" y="2092320"/>
            <a:ext cx="6662880" cy="2089080"/>
            <a:chOff x="2128680" y="2092320"/>
            <a:chExt cx="6662880" cy="2089080"/>
          </a:xfrm>
        </p:grpSpPr>
        <p:sp>
          <p:nvSpPr>
            <p:cNvPr id="274" name=""/>
            <p:cNvSpPr/>
            <p:nvPr/>
          </p:nvSpPr>
          <p:spPr>
            <a:xfrm>
              <a:off x="2128680" y="3262320"/>
              <a:ext cx="6662880" cy="919080"/>
            </a:xfrm>
            <a:custGeom>
              <a:avLst/>
              <a:gdLst/>
              <a:ahLst/>
              <a:rect l="l" t="t" r="r" b="b"/>
              <a:pathLst>
                <a:path w="4701" h="579">
                  <a:moveTo>
                    <a:pt x="0" y="0"/>
                  </a:moveTo>
                  <a:lnTo>
                    <a:pt x="2349" y="578"/>
                  </a:lnTo>
                  <a:lnTo>
                    <a:pt x="470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28680" y="2197080"/>
              <a:ext cx="6662880" cy="1066680"/>
            </a:xfrm>
            <a:custGeom>
              <a:avLst/>
              <a:gdLst/>
              <a:ahLst/>
              <a:rect l="l" t="t" r="r" b="b"/>
              <a:pathLst>
                <a:path w="4701" h="672">
                  <a:moveTo>
                    <a:pt x="0" y="671"/>
                  </a:moveTo>
                  <a:lnTo>
                    <a:pt x="0" y="0"/>
                  </a:lnTo>
                  <a:lnTo>
                    <a:pt x="4700" y="0"/>
                  </a:lnTo>
                  <a:lnTo>
                    <a:pt x="4700" y="671"/>
                  </a:lnTo>
                  <a:lnTo>
                    <a:pt x="0" y="671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571840" y="2092320"/>
              <a:ext cx="574992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</a:rPr>
                <a:t>Reliance on Technolog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</a:rPr>
                <a:t>and Capital Good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138400" y="3639960"/>
            <a:ext cx="6662880" cy="1070280"/>
          </a:xfrm>
          <a:custGeom>
            <a:avLst/>
            <a:gdLst/>
            <a:ahLst/>
            <a:rect l="l" t="t" r="r" b="b"/>
            <a:pathLst>
              <a:path w="4701" h="674">
                <a:moveTo>
                  <a:pt x="0" y="673"/>
                </a:moveTo>
                <a:lnTo>
                  <a:pt x="0" y="0"/>
                </a:lnTo>
                <a:lnTo>
                  <a:pt x="4700" y="0"/>
                </a:lnTo>
                <a:lnTo>
                  <a:pt x="4700" y="673"/>
                </a:lnTo>
                <a:lnTo>
                  <a:pt x="0" y="673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43080" y="3859200"/>
            <a:ext cx="6556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pecialization and Effici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55800" y="6045120"/>
            <a:ext cx="5321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s a Medium of Exch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996200" y="247680"/>
            <a:ext cx="6816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APITALIST IDE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2138400" y="4167360"/>
            <a:ext cx="6662880" cy="1977840"/>
            <a:chOff x="2138400" y="4167360"/>
            <a:chExt cx="6662880" cy="1977840"/>
          </a:xfrm>
        </p:grpSpPr>
        <p:sp>
          <p:nvSpPr>
            <p:cNvPr id="282" name=""/>
            <p:cNvSpPr/>
            <p:nvPr/>
          </p:nvSpPr>
          <p:spPr>
            <a:xfrm>
              <a:off x="2151000" y="4167360"/>
              <a:ext cx="6650280" cy="919080"/>
            </a:xfrm>
            <a:custGeom>
              <a:avLst/>
              <a:gdLst/>
              <a:ahLst/>
              <a:rect l="l" t="t" r="r" b="b"/>
              <a:pathLst>
                <a:path w="4701" h="579">
                  <a:moveTo>
                    <a:pt x="0" y="578"/>
                  </a:moveTo>
                  <a:lnTo>
                    <a:pt x="2349" y="0"/>
                  </a:lnTo>
                  <a:lnTo>
                    <a:pt x="4700" y="578"/>
                  </a:lnTo>
                  <a:lnTo>
                    <a:pt x="0" y="57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138400" y="5078520"/>
              <a:ext cx="6662880" cy="1066680"/>
            </a:xfrm>
            <a:custGeom>
              <a:avLst/>
              <a:gdLst/>
              <a:ahLst/>
              <a:rect l="l" t="t" r="r" b="b"/>
              <a:pathLst>
                <a:path w="4701" h="672">
                  <a:moveTo>
                    <a:pt x="0" y="671"/>
                  </a:moveTo>
                  <a:lnTo>
                    <a:pt x="0" y="0"/>
                  </a:lnTo>
                  <a:lnTo>
                    <a:pt x="4700" y="0"/>
                  </a:lnTo>
                  <a:lnTo>
                    <a:pt x="4700" y="671"/>
                  </a:lnTo>
                  <a:lnTo>
                    <a:pt x="0" y="671"/>
                  </a:lnTo>
                </a:path>
              </a:pathLst>
            </a:custGeom>
            <a:solidFill>
              <a:srgbClr val="ff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270240" y="5248440"/>
              <a:ext cx="439740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Arial"/>
                </a:rPr>
                <a:t>Use of Money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870120" y="957240"/>
            <a:ext cx="62226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Brush Script MT"/>
              </a:rPr>
              <a:t>Other Characteristic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128680" y="2092320"/>
            <a:ext cx="6662880" cy="2089080"/>
            <a:chOff x="2128680" y="2092320"/>
            <a:chExt cx="6662880" cy="2089080"/>
          </a:xfrm>
        </p:grpSpPr>
        <p:sp>
          <p:nvSpPr>
            <p:cNvPr id="287" name=""/>
            <p:cNvSpPr/>
            <p:nvPr/>
          </p:nvSpPr>
          <p:spPr>
            <a:xfrm>
              <a:off x="2128680" y="3262320"/>
              <a:ext cx="6662880" cy="919080"/>
            </a:xfrm>
            <a:custGeom>
              <a:avLst/>
              <a:gdLst/>
              <a:ahLst/>
              <a:rect l="l" t="t" r="r" b="b"/>
              <a:pathLst>
                <a:path w="4701" h="579">
                  <a:moveTo>
                    <a:pt x="0" y="0"/>
                  </a:moveTo>
                  <a:lnTo>
                    <a:pt x="2349" y="578"/>
                  </a:lnTo>
                  <a:lnTo>
                    <a:pt x="470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128680" y="2197080"/>
              <a:ext cx="6662880" cy="1066680"/>
            </a:xfrm>
            <a:custGeom>
              <a:avLst/>
              <a:gdLst/>
              <a:ahLst/>
              <a:rect l="l" t="t" r="r" b="b"/>
              <a:pathLst>
                <a:path w="4701" h="672">
                  <a:moveTo>
                    <a:pt x="0" y="671"/>
                  </a:moveTo>
                  <a:lnTo>
                    <a:pt x="0" y="0"/>
                  </a:lnTo>
                  <a:lnTo>
                    <a:pt x="4700" y="0"/>
                  </a:lnTo>
                  <a:lnTo>
                    <a:pt x="4700" y="671"/>
                  </a:lnTo>
                  <a:lnTo>
                    <a:pt x="0" y="671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71840" y="2092320"/>
              <a:ext cx="574992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</a:rPr>
                <a:t>Reliance on Technolog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</a:rPr>
                <a:t>and Capital Good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138400" y="3639960"/>
            <a:ext cx="6662880" cy="1070280"/>
            <a:chOff x="2138400" y="3639960"/>
            <a:chExt cx="6662880" cy="1070280"/>
          </a:xfrm>
        </p:grpSpPr>
        <p:sp>
          <p:nvSpPr>
            <p:cNvPr id="291" name=""/>
            <p:cNvSpPr/>
            <p:nvPr/>
          </p:nvSpPr>
          <p:spPr>
            <a:xfrm>
              <a:off x="2138400" y="3639960"/>
              <a:ext cx="6662880" cy="1070280"/>
            </a:xfrm>
            <a:custGeom>
              <a:avLst/>
              <a:gdLst/>
              <a:ahLst/>
              <a:rect l="l" t="t" r="r" b="b"/>
              <a:pathLst>
                <a:path w="4701" h="674">
                  <a:moveTo>
                    <a:pt x="0" y="673"/>
                  </a:moveTo>
                  <a:lnTo>
                    <a:pt x="0" y="0"/>
                  </a:lnTo>
                  <a:lnTo>
                    <a:pt x="4700" y="0"/>
                  </a:lnTo>
                  <a:lnTo>
                    <a:pt x="4700" y="673"/>
                  </a:lnTo>
                  <a:lnTo>
                    <a:pt x="0" y="673"/>
                  </a:lnTo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cc99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143080" y="3859200"/>
              <a:ext cx="65563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</a:rPr>
                <a:t>Specialization and Efficienc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806560" y="6058080"/>
            <a:ext cx="5321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arter System Difficul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996200" y="247680"/>
            <a:ext cx="6816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APITALIST IDE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22560" y="900000"/>
            <a:ext cx="1021716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Brush Script MT"/>
              </a:rPr>
              <a:t>The Four Fundamental Questions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76480" y="1714680"/>
            <a:ext cx="6831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0000"/>
                </a:solidFill>
                <a:latin typeface="Times New Roman"/>
              </a:rPr>
              <a:t>What will be produced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59320" y="235080"/>
            <a:ext cx="72496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THE MARKET SYSTEM AT WOR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22560" y="900000"/>
            <a:ext cx="1021716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Brush Script MT"/>
              </a:rPr>
              <a:t>The Four Fundamental Questions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76480" y="1638360"/>
            <a:ext cx="5634360" cy="21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0000"/>
                </a:solidFill>
                <a:latin typeface="Times New Roman"/>
              </a:rPr>
              <a:t>How will the goods be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en-US" sz="4600" spc="-1" strike="noStrike">
                <a:solidFill>
                  <a:srgbClr val="cc0000"/>
                </a:solidFill>
                <a:latin typeface="Times New Roman"/>
              </a:rPr>
              <a:t>produced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077920" y="1600200"/>
            <a:ext cx="6167880" cy="7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What will be produced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59320" y="235080"/>
            <a:ext cx="72496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THE MARKET SYSTEM AT WOR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75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22560" y="900000"/>
            <a:ext cx="1021716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Brush Script MT"/>
              </a:rPr>
              <a:t>The Four Fundamental Questions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076480" y="1638360"/>
            <a:ext cx="5634360" cy="21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How will the goods be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produced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77920" y="1600200"/>
            <a:ext cx="6167880" cy="7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What will be produced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76480" y="2374920"/>
            <a:ext cx="582948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0000"/>
                </a:solidFill>
                <a:latin typeface="Times New Roman"/>
              </a:rPr>
              <a:t>Who will get the good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en-US" sz="4600" spc="-1" strike="noStrike">
                <a:solidFill>
                  <a:srgbClr val="cc0000"/>
                </a:solidFill>
                <a:latin typeface="Times New Roman"/>
              </a:rPr>
              <a:t>and services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759320" y="235080"/>
            <a:ext cx="72496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THE MARKET SYSTEM AT WOR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75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22560" y="900000"/>
            <a:ext cx="1021716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Brush Script MT"/>
              </a:rPr>
              <a:t>The Four Fundamental Questions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76480" y="1638360"/>
            <a:ext cx="5634360" cy="21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How will the goods be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produced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77920" y="1600200"/>
            <a:ext cx="6167880" cy="7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What will be produced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76480" y="2374920"/>
            <a:ext cx="582948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Who will get the good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and services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75760" y="3086280"/>
            <a:ext cx="6105240" cy="35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0000"/>
                </a:solidFill>
                <a:latin typeface="Times New Roman"/>
              </a:rPr>
              <a:t>How will the system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en-US" sz="4600" spc="-1" strike="noStrike">
                <a:solidFill>
                  <a:srgbClr val="cc0000"/>
                </a:solidFill>
                <a:latin typeface="Times New Roman"/>
              </a:rPr>
              <a:t>accommodate change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59320" y="235080"/>
            <a:ext cx="72496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THE MARKET SYSTEM AT WOR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75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897560" y="1353960"/>
            <a:ext cx="6041160" cy="34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Economic or Pure Prof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Normal Prof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Expanding Indus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Declining Indus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Consumer Sovereign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871640" y="171360"/>
            <a:ext cx="701064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WHAT WILL BE PRODUCED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0400" y="858960"/>
            <a:ext cx="7390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conomic Profit = Total Revenue – Total Co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897560" y="1353960"/>
            <a:ext cx="6041160" cy="34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conomic or Pure Prof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rmal Prof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panding Indus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clining Indus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sumer Sovereign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03320" y="4694400"/>
            <a:ext cx="6572520" cy="24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Times New Roman"/>
              </a:rPr>
              <a:t>Dollar Vot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Times New Roman"/>
              </a:rPr>
              <a:t>Market Restraints on Freedo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Times New Roman"/>
              </a:rPr>
              <a:t>Derived Demand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71640" y="171360"/>
            <a:ext cx="701064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WHAT WILL BE PRODUCED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70400" y="858960"/>
            <a:ext cx="7390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conomic Profit = Total Revenue – Total Co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915200" y="1455840"/>
            <a:ext cx="673632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Least Cost Produ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0000"/>
                </a:solidFill>
                <a:latin typeface="Times New Roman"/>
              </a:rPr>
              <a:t>Resource Price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0000"/>
                </a:solidFill>
                <a:latin typeface="Times New Roman"/>
              </a:rPr>
              <a:t>Resource Productivity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0000"/>
                </a:solidFill>
                <a:latin typeface="Times New Roman"/>
              </a:rPr>
              <a:t>Transportation Cost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Available Technolog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Economic Efficienc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83880" y="82440"/>
            <a:ext cx="702576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HOW WILL THE GOODS AND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SERVICES BE PRODUCED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1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10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046960" y="247680"/>
            <a:ext cx="6816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APITALIST IDE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275440" y="1552680"/>
            <a:ext cx="3332160" cy="2411280"/>
            <a:chOff x="5275440" y="1552680"/>
            <a:chExt cx="3332160" cy="2411280"/>
          </a:xfrm>
        </p:grpSpPr>
        <p:sp>
          <p:nvSpPr>
            <p:cNvPr id="72" name=""/>
            <p:cNvSpPr/>
            <p:nvPr/>
          </p:nvSpPr>
          <p:spPr>
            <a:xfrm>
              <a:off x="5275440" y="2692440"/>
              <a:ext cx="3332160" cy="1271520"/>
            </a:xfrm>
            <a:custGeom>
              <a:avLst/>
              <a:gdLst/>
              <a:ahLst/>
              <a:rect l="l" t="t" r="r" b="b"/>
              <a:pathLst>
                <a:path w="2538" h="790">
                  <a:moveTo>
                    <a:pt x="0" y="789"/>
                  </a:moveTo>
                  <a:lnTo>
                    <a:pt x="2537" y="0"/>
                  </a:lnTo>
                  <a:lnTo>
                    <a:pt x="314" y="0"/>
                  </a:lnTo>
                  <a:lnTo>
                    <a:pt x="0" y="78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75440" y="1611360"/>
              <a:ext cx="414000" cy="2352600"/>
            </a:xfrm>
            <a:custGeom>
              <a:avLst/>
              <a:gdLst/>
              <a:ahLst/>
              <a:rect l="l" t="t" r="r" b="b"/>
              <a:pathLst>
                <a:path w="315" h="1462">
                  <a:moveTo>
                    <a:pt x="314" y="672"/>
                  </a:moveTo>
                  <a:lnTo>
                    <a:pt x="314" y="0"/>
                  </a:lnTo>
                  <a:lnTo>
                    <a:pt x="0" y="1461"/>
                  </a:lnTo>
                  <a:lnTo>
                    <a:pt x="314" y="672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88000" y="1616040"/>
              <a:ext cx="2919600" cy="1085760"/>
            </a:xfrm>
            <a:custGeom>
              <a:avLst/>
              <a:gdLst/>
              <a:ahLst/>
              <a:rect l="l" t="t" r="r" b="b"/>
              <a:pathLst>
                <a:path w="2224" h="675">
                  <a:moveTo>
                    <a:pt x="0" y="0"/>
                  </a:moveTo>
                  <a:lnTo>
                    <a:pt x="0" y="674"/>
                  </a:lnTo>
                  <a:lnTo>
                    <a:pt x="2223" y="674"/>
                  </a:lnTo>
                  <a:lnTo>
                    <a:pt x="2223" y="0"/>
                  </a:lnTo>
                  <a:lnTo>
                    <a:pt x="0" y="0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054120" y="1552680"/>
              <a:ext cx="221292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REEDOM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&amp; CHO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938240" y="1603440"/>
            <a:ext cx="3338640" cy="2360520"/>
            <a:chOff x="1938240" y="1603440"/>
            <a:chExt cx="3338640" cy="2360520"/>
          </a:xfrm>
        </p:grpSpPr>
        <p:sp>
          <p:nvSpPr>
            <p:cNvPr id="77" name=""/>
            <p:cNvSpPr/>
            <p:nvPr/>
          </p:nvSpPr>
          <p:spPr>
            <a:xfrm>
              <a:off x="1938240" y="2693880"/>
              <a:ext cx="3338640" cy="1270080"/>
            </a:xfrm>
            <a:custGeom>
              <a:avLst/>
              <a:gdLst/>
              <a:ahLst/>
              <a:rect l="l" t="t" r="r" b="b"/>
              <a:pathLst>
                <a:path w="2543" h="790">
                  <a:moveTo>
                    <a:pt x="2542" y="789"/>
                  </a:moveTo>
                  <a:lnTo>
                    <a:pt x="0" y="0"/>
                  </a:lnTo>
                  <a:lnTo>
                    <a:pt x="2219" y="0"/>
                  </a:lnTo>
                  <a:lnTo>
                    <a:pt x="2542" y="78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51360" y="1612800"/>
              <a:ext cx="425520" cy="2351160"/>
            </a:xfrm>
            <a:custGeom>
              <a:avLst/>
              <a:gdLst/>
              <a:ahLst/>
              <a:rect l="l" t="t" r="r" b="b"/>
              <a:pathLst>
                <a:path w="324" h="1462">
                  <a:moveTo>
                    <a:pt x="323" y="1461"/>
                  </a:moveTo>
                  <a:lnTo>
                    <a:pt x="0" y="0"/>
                  </a:lnTo>
                  <a:lnTo>
                    <a:pt x="0" y="672"/>
                  </a:lnTo>
                  <a:lnTo>
                    <a:pt x="323" y="1461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41480" y="1616040"/>
              <a:ext cx="2919600" cy="1085760"/>
            </a:xfrm>
            <a:custGeom>
              <a:avLst/>
              <a:gdLst/>
              <a:ahLst/>
              <a:rect l="l" t="t" r="r" b="b"/>
              <a:pathLst>
                <a:path w="2224" h="675">
                  <a:moveTo>
                    <a:pt x="0" y="0"/>
                  </a:moveTo>
                  <a:lnTo>
                    <a:pt x="0" y="674"/>
                  </a:lnTo>
                  <a:lnTo>
                    <a:pt x="2223" y="674"/>
                  </a:lnTo>
                  <a:lnTo>
                    <a:pt x="2223" y="0"/>
                  </a:lnTo>
                  <a:lnTo>
                    <a:pt x="0" y="0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51720" y="1603440"/>
              <a:ext cx="242028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RIVA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ROPERT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941480" y="3425760"/>
            <a:ext cx="3335400" cy="1108440"/>
            <a:chOff x="1941480" y="3425760"/>
            <a:chExt cx="3335400" cy="1108440"/>
          </a:xfrm>
        </p:grpSpPr>
        <p:sp>
          <p:nvSpPr>
            <p:cNvPr id="82" name=""/>
            <p:cNvSpPr/>
            <p:nvPr/>
          </p:nvSpPr>
          <p:spPr>
            <a:xfrm>
              <a:off x="4851360" y="3429000"/>
              <a:ext cx="425520" cy="1087560"/>
            </a:xfrm>
            <a:custGeom>
              <a:avLst/>
              <a:gdLst/>
              <a:ahLst/>
              <a:rect l="l" t="t" r="r" b="b"/>
              <a:pathLst>
                <a:path w="324" h="676">
                  <a:moveTo>
                    <a:pt x="323" y="332"/>
                  </a:moveTo>
                  <a:lnTo>
                    <a:pt x="0" y="0"/>
                  </a:lnTo>
                  <a:lnTo>
                    <a:pt x="0" y="675"/>
                  </a:lnTo>
                  <a:lnTo>
                    <a:pt x="323" y="332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41480" y="3425760"/>
              <a:ext cx="2919600" cy="1090800"/>
            </a:xfrm>
            <a:custGeom>
              <a:avLst/>
              <a:gdLst/>
              <a:ahLst/>
              <a:rect l="l" t="t" r="r" b="b"/>
              <a:pathLst>
                <a:path w="2224" h="678">
                  <a:moveTo>
                    <a:pt x="0" y="0"/>
                  </a:moveTo>
                  <a:lnTo>
                    <a:pt x="0" y="677"/>
                  </a:lnTo>
                  <a:lnTo>
                    <a:pt x="2223" y="677"/>
                  </a:lnTo>
                  <a:lnTo>
                    <a:pt x="2223" y="0"/>
                  </a:lnTo>
                  <a:lnTo>
                    <a:pt x="0" y="0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75560" y="3470400"/>
              <a:ext cx="219312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ELF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NTERES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5275440" y="3429000"/>
            <a:ext cx="3332160" cy="1087560"/>
            <a:chOff x="5275440" y="3429000"/>
            <a:chExt cx="3332160" cy="1087560"/>
          </a:xfrm>
        </p:grpSpPr>
        <p:sp>
          <p:nvSpPr>
            <p:cNvPr id="86" name=""/>
            <p:cNvSpPr/>
            <p:nvPr/>
          </p:nvSpPr>
          <p:spPr>
            <a:xfrm>
              <a:off x="5275440" y="3429000"/>
              <a:ext cx="414000" cy="1087560"/>
            </a:xfrm>
            <a:custGeom>
              <a:avLst/>
              <a:gdLst/>
              <a:ahLst/>
              <a:rect l="l" t="t" r="r" b="b"/>
              <a:pathLst>
                <a:path w="315" h="676">
                  <a:moveTo>
                    <a:pt x="0" y="332"/>
                  </a:moveTo>
                  <a:lnTo>
                    <a:pt x="314" y="0"/>
                  </a:lnTo>
                  <a:lnTo>
                    <a:pt x="314" y="675"/>
                  </a:lnTo>
                  <a:lnTo>
                    <a:pt x="0" y="332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88000" y="3429000"/>
              <a:ext cx="2919600" cy="1087560"/>
            </a:xfrm>
            <a:custGeom>
              <a:avLst/>
              <a:gdLst/>
              <a:ahLst/>
              <a:rect l="l" t="t" r="r" b="b"/>
              <a:pathLst>
                <a:path w="2224" h="676">
                  <a:moveTo>
                    <a:pt x="0" y="0"/>
                  </a:moveTo>
                  <a:lnTo>
                    <a:pt x="0" y="675"/>
                  </a:lnTo>
                  <a:lnTo>
                    <a:pt x="2223" y="675"/>
                  </a:lnTo>
                  <a:lnTo>
                    <a:pt x="2223" y="0"/>
                  </a:lnTo>
                  <a:lnTo>
                    <a:pt x="0" y="0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1280" y="3657600"/>
              <a:ext cx="282708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COMPETITIO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41680" y="3571920"/>
            <a:ext cx="29844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916280" y="1455840"/>
            <a:ext cx="722772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Market Syst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Rationing Function of Equilibrium Pric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Income Constrai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Resource Pric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97560" y="82440"/>
            <a:ext cx="699840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WHO WILL GET THE GOOD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AND SERVICES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1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1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1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763640" y="1494000"/>
            <a:ext cx="7392960" cy="44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Dynamic Market Syst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Guiding Function of Pric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Role in Promoting Progr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Technological Advan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Creative De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Capital Accumul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40840" y="82440"/>
            <a:ext cx="671796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HOW WILL THE SYSTEM</a:t>
            </a:r>
            <a:br>
              <a:rPr sz="3800"/>
            </a:b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ACCOMMODATE CHANGE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1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1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1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10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10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2637000" y="1549440"/>
            <a:ext cx="5537160" cy="2198520"/>
            <a:chOff x="2637000" y="1549440"/>
            <a:chExt cx="5537160" cy="2198520"/>
          </a:xfrm>
        </p:grpSpPr>
        <p:sp>
          <p:nvSpPr>
            <p:cNvPr id="327" name=""/>
            <p:cNvSpPr/>
            <p:nvPr/>
          </p:nvSpPr>
          <p:spPr>
            <a:xfrm>
              <a:off x="2639880" y="1730520"/>
              <a:ext cx="474840" cy="1989000"/>
            </a:xfrm>
            <a:custGeom>
              <a:avLst/>
              <a:gdLst/>
              <a:ahLst/>
              <a:rect l="l" t="t" r="r" b="b"/>
              <a:pathLst>
                <a:path w="1195" h="6265">
                  <a:moveTo>
                    <a:pt x="1195" y="0"/>
                  </a:moveTo>
                  <a:lnTo>
                    <a:pt x="1195" y="6089"/>
                  </a:lnTo>
                  <a:lnTo>
                    <a:pt x="928" y="6265"/>
                  </a:lnTo>
                  <a:lnTo>
                    <a:pt x="0" y="6265"/>
                  </a:lnTo>
                  <a:lnTo>
                    <a:pt x="0" y="0"/>
                  </a:lnTo>
                  <a:lnTo>
                    <a:pt x="119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92320" y="1828800"/>
              <a:ext cx="428760" cy="1724040"/>
            </a:xfrm>
            <a:custGeom>
              <a:avLst/>
              <a:gdLst/>
              <a:ahLst/>
              <a:rect l="l" t="t" r="r" b="b"/>
              <a:pathLst>
                <a:path w="1083" h="5432">
                  <a:moveTo>
                    <a:pt x="1083" y="0"/>
                  </a:moveTo>
                  <a:lnTo>
                    <a:pt x="967" y="2014"/>
                  </a:lnTo>
                  <a:lnTo>
                    <a:pt x="967" y="3941"/>
                  </a:lnTo>
                  <a:lnTo>
                    <a:pt x="1083" y="5432"/>
                  </a:lnTo>
                  <a:lnTo>
                    <a:pt x="193" y="5432"/>
                  </a:lnTo>
                  <a:lnTo>
                    <a:pt x="43" y="4204"/>
                  </a:lnTo>
                  <a:lnTo>
                    <a:pt x="0" y="2584"/>
                  </a:lnTo>
                  <a:lnTo>
                    <a:pt x="82" y="1093"/>
                  </a:lnTo>
                  <a:lnTo>
                    <a:pt x="273" y="0"/>
                  </a:lnTo>
                  <a:lnTo>
                    <a:pt x="108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38400" y="2635200"/>
              <a:ext cx="382680" cy="917640"/>
            </a:xfrm>
            <a:custGeom>
              <a:avLst/>
              <a:gdLst/>
              <a:ahLst/>
              <a:rect l="l" t="t" r="r" b="b"/>
              <a:pathLst>
                <a:path w="964" h="2893">
                  <a:moveTo>
                    <a:pt x="848" y="1228"/>
                  </a:moveTo>
                  <a:lnTo>
                    <a:pt x="460" y="1052"/>
                  </a:lnTo>
                  <a:lnTo>
                    <a:pt x="231" y="1184"/>
                  </a:lnTo>
                  <a:lnTo>
                    <a:pt x="0" y="0"/>
                  </a:lnTo>
                  <a:lnTo>
                    <a:pt x="0" y="2017"/>
                  </a:lnTo>
                  <a:lnTo>
                    <a:pt x="154" y="2893"/>
                  </a:lnTo>
                  <a:lnTo>
                    <a:pt x="964" y="2893"/>
                  </a:lnTo>
                  <a:lnTo>
                    <a:pt x="848" y="122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89400" y="1563840"/>
              <a:ext cx="4722840" cy="2003400"/>
            </a:xfrm>
            <a:custGeom>
              <a:avLst/>
              <a:gdLst/>
              <a:ahLst/>
              <a:rect l="l" t="t" r="r" b="b"/>
              <a:pathLst>
                <a:path w="11902" h="6310">
                  <a:moveTo>
                    <a:pt x="11672" y="527"/>
                  </a:moveTo>
                  <a:lnTo>
                    <a:pt x="11902" y="835"/>
                  </a:lnTo>
                  <a:lnTo>
                    <a:pt x="11863" y="1271"/>
                  </a:lnTo>
                  <a:lnTo>
                    <a:pt x="11017" y="1578"/>
                  </a:lnTo>
                  <a:lnTo>
                    <a:pt x="7938" y="1578"/>
                  </a:lnTo>
                  <a:lnTo>
                    <a:pt x="7938" y="2280"/>
                  </a:lnTo>
                  <a:lnTo>
                    <a:pt x="6971" y="2849"/>
                  </a:lnTo>
                  <a:lnTo>
                    <a:pt x="7281" y="3595"/>
                  </a:lnTo>
                  <a:lnTo>
                    <a:pt x="6358" y="4426"/>
                  </a:lnTo>
                  <a:lnTo>
                    <a:pt x="6127" y="5301"/>
                  </a:lnTo>
                  <a:lnTo>
                    <a:pt x="4236" y="6310"/>
                  </a:lnTo>
                  <a:lnTo>
                    <a:pt x="3198" y="5872"/>
                  </a:lnTo>
                  <a:lnTo>
                    <a:pt x="1119" y="5872"/>
                  </a:lnTo>
                  <a:lnTo>
                    <a:pt x="42" y="5433"/>
                  </a:lnTo>
                  <a:lnTo>
                    <a:pt x="0" y="2937"/>
                  </a:lnTo>
                  <a:lnTo>
                    <a:pt x="0" y="2148"/>
                  </a:lnTo>
                  <a:lnTo>
                    <a:pt x="119" y="1315"/>
                  </a:lnTo>
                  <a:lnTo>
                    <a:pt x="2044" y="527"/>
                  </a:lnTo>
                  <a:lnTo>
                    <a:pt x="3198" y="132"/>
                  </a:lnTo>
                  <a:lnTo>
                    <a:pt x="3586" y="0"/>
                  </a:lnTo>
                  <a:lnTo>
                    <a:pt x="4046" y="45"/>
                  </a:lnTo>
                  <a:lnTo>
                    <a:pt x="5970" y="132"/>
                  </a:lnTo>
                  <a:lnTo>
                    <a:pt x="7013" y="220"/>
                  </a:lnTo>
                  <a:lnTo>
                    <a:pt x="8513" y="220"/>
                  </a:lnTo>
                  <a:lnTo>
                    <a:pt x="10939" y="439"/>
                  </a:lnTo>
                  <a:lnTo>
                    <a:pt x="11672" y="5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57680" y="2886120"/>
              <a:ext cx="1284480" cy="403200"/>
            </a:xfrm>
            <a:custGeom>
              <a:avLst/>
              <a:gdLst/>
              <a:ahLst/>
              <a:rect l="l" t="t" r="r" b="b"/>
              <a:pathLst>
                <a:path w="3237" h="1269">
                  <a:moveTo>
                    <a:pt x="2814" y="394"/>
                  </a:moveTo>
                  <a:lnTo>
                    <a:pt x="2772" y="612"/>
                  </a:lnTo>
                  <a:lnTo>
                    <a:pt x="2619" y="701"/>
                  </a:lnTo>
                  <a:lnTo>
                    <a:pt x="2039" y="743"/>
                  </a:lnTo>
                  <a:lnTo>
                    <a:pt x="1196" y="657"/>
                  </a:lnTo>
                  <a:lnTo>
                    <a:pt x="618" y="481"/>
                  </a:lnTo>
                  <a:lnTo>
                    <a:pt x="273" y="262"/>
                  </a:lnTo>
                  <a:lnTo>
                    <a:pt x="273" y="0"/>
                  </a:lnTo>
                  <a:lnTo>
                    <a:pt x="0" y="570"/>
                  </a:lnTo>
                  <a:lnTo>
                    <a:pt x="1038" y="1227"/>
                  </a:lnTo>
                  <a:lnTo>
                    <a:pt x="1466" y="1269"/>
                  </a:lnTo>
                  <a:lnTo>
                    <a:pt x="2848" y="1137"/>
                  </a:lnTo>
                  <a:lnTo>
                    <a:pt x="3121" y="964"/>
                  </a:lnTo>
                  <a:lnTo>
                    <a:pt x="3237" y="701"/>
                  </a:lnTo>
                  <a:lnTo>
                    <a:pt x="3197" y="307"/>
                  </a:lnTo>
                  <a:lnTo>
                    <a:pt x="2814" y="394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414680" y="3205080"/>
              <a:ext cx="1100160" cy="433440"/>
            </a:xfrm>
            <a:custGeom>
              <a:avLst/>
              <a:gdLst/>
              <a:ahLst/>
              <a:rect l="l" t="t" r="r" b="b"/>
              <a:pathLst>
                <a:path w="2772" h="1365">
                  <a:moveTo>
                    <a:pt x="1767" y="921"/>
                  </a:moveTo>
                  <a:lnTo>
                    <a:pt x="1231" y="658"/>
                  </a:lnTo>
                  <a:lnTo>
                    <a:pt x="766" y="439"/>
                  </a:lnTo>
                  <a:lnTo>
                    <a:pt x="460" y="0"/>
                  </a:lnTo>
                  <a:lnTo>
                    <a:pt x="306" y="176"/>
                  </a:lnTo>
                  <a:lnTo>
                    <a:pt x="0" y="307"/>
                  </a:lnTo>
                  <a:lnTo>
                    <a:pt x="192" y="615"/>
                  </a:lnTo>
                  <a:lnTo>
                    <a:pt x="1307" y="1140"/>
                  </a:lnTo>
                  <a:lnTo>
                    <a:pt x="2155" y="1365"/>
                  </a:lnTo>
                  <a:lnTo>
                    <a:pt x="2576" y="1277"/>
                  </a:lnTo>
                  <a:lnTo>
                    <a:pt x="2734" y="1009"/>
                  </a:lnTo>
                  <a:lnTo>
                    <a:pt x="2772" y="483"/>
                  </a:lnTo>
                  <a:lnTo>
                    <a:pt x="2231" y="526"/>
                  </a:lnTo>
                  <a:lnTo>
                    <a:pt x="1767" y="921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73520" y="2440080"/>
              <a:ext cx="1650960" cy="473040"/>
            </a:xfrm>
            <a:custGeom>
              <a:avLst/>
              <a:gdLst/>
              <a:ahLst/>
              <a:rect l="l" t="t" r="r" b="b"/>
              <a:pathLst>
                <a:path w="4159" h="1488">
                  <a:moveTo>
                    <a:pt x="3466" y="43"/>
                  </a:moveTo>
                  <a:lnTo>
                    <a:pt x="3619" y="394"/>
                  </a:lnTo>
                  <a:lnTo>
                    <a:pt x="3542" y="657"/>
                  </a:lnTo>
                  <a:lnTo>
                    <a:pt x="3312" y="788"/>
                  </a:lnTo>
                  <a:lnTo>
                    <a:pt x="2580" y="919"/>
                  </a:lnTo>
                  <a:lnTo>
                    <a:pt x="1694" y="963"/>
                  </a:lnTo>
                  <a:lnTo>
                    <a:pt x="1349" y="875"/>
                  </a:lnTo>
                  <a:lnTo>
                    <a:pt x="1039" y="525"/>
                  </a:lnTo>
                  <a:lnTo>
                    <a:pt x="847" y="439"/>
                  </a:lnTo>
                  <a:lnTo>
                    <a:pt x="847" y="1006"/>
                  </a:lnTo>
                  <a:lnTo>
                    <a:pt x="694" y="1139"/>
                  </a:lnTo>
                  <a:lnTo>
                    <a:pt x="190" y="743"/>
                  </a:lnTo>
                  <a:lnTo>
                    <a:pt x="158" y="525"/>
                  </a:lnTo>
                  <a:lnTo>
                    <a:pt x="190" y="307"/>
                  </a:lnTo>
                  <a:lnTo>
                    <a:pt x="38" y="394"/>
                  </a:lnTo>
                  <a:lnTo>
                    <a:pt x="0" y="743"/>
                  </a:lnTo>
                  <a:lnTo>
                    <a:pt x="310" y="1006"/>
                  </a:lnTo>
                  <a:lnTo>
                    <a:pt x="731" y="1270"/>
                  </a:lnTo>
                  <a:lnTo>
                    <a:pt x="2197" y="1488"/>
                  </a:lnTo>
                  <a:lnTo>
                    <a:pt x="3814" y="1314"/>
                  </a:lnTo>
                  <a:lnTo>
                    <a:pt x="4159" y="963"/>
                  </a:lnTo>
                  <a:lnTo>
                    <a:pt x="4159" y="525"/>
                  </a:lnTo>
                  <a:lnTo>
                    <a:pt x="3776" y="0"/>
                  </a:lnTo>
                  <a:lnTo>
                    <a:pt x="3466" y="4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84960" y="1730520"/>
              <a:ext cx="2673360" cy="361800"/>
            </a:xfrm>
            <a:custGeom>
              <a:avLst/>
              <a:gdLst/>
              <a:ahLst/>
              <a:rect l="l" t="t" r="r" b="b"/>
              <a:pathLst>
                <a:path w="6734" h="1138">
                  <a:moveTo>
                    <a:pt x="6430" y="0"/>
                  </a:moveTo>
                  <a:lnTo>
                    <a:pt x="6506" y="308"/>
                  </a:lnTo>
                  <a:lnTo>
                    <a:pt x="6391" y="570"/>
                  </a:lnTo>
                  <a:lnTo>
                    <a:pt x="5964" y="702"/>
                  </a:lnTo>
                  <a:lnTo>
                    <a:pt x="5466" y="702"/>
                  </a:lnTo>
                  <a:lnTo>
                    <a:pt x="4772" y="609"/>
                  </a:lnTo>
                  <a:lnTo>
                    <a:pt x="4274" y="744"/>
                  </a:lnTo>
                  <a:lnTo>
                    <a:pt x="3734" y="744"/>
                  </a:lnTo>
                  <a:lnTo>
                    <a:pt x="3193" y="521"/>
                  </a:lnTo>
                  <a:lnTo>
                    <a:pt x="2499" y="609"/>
                  </a:lnTo>
                  <a:lnTo>
                    <a:pt x="1808" y="657"/>
                  </a:lnTo>
                  <a:lnTo>
                    <a:pt x="881" y="439"/>
                  </a:lnTo>
                  <a:lnTo>
                    <a:pt x="0" y="175"/>
                  </a:lnTo>
                  <a:lnTo>
                    <a:pt x="765" y="570"/>
                  </a:lnTo>
                  <a:lnTo>
                    <a:pt x="1114" y="744"/>
                  </a:lnTo>
                  <a:lnTo>
                    <a:pt x="2115" y="1096"/>
                  </a:lnTo>
                  <a:lnTo>
                    <a:pt x="3466" y="1138"/>
                  </a:lnTo>
                  <a:lnTo>
                    <a:pt x="4888" y="1051"/>
                  </a:lnTo>
                  <a:lnTo>
                    <a:pt x="5925" y="1096"/>
                  </a:lnTo>
                  <a:lnTo>
                    <a:pt x="6391" y="964"/>
                  </a:lnTo>
                  <a:lnTo>
                    <a:pt x="6658" y="788"/>
                  </a:lnTo>
                  <a:lnTo>
                    <a:pt x="6734" y="481"/>
                  </a:lnTo>
                  <a:lnTo>
                    <a:pt x="6658" y="215"/>
                  </a:lnTo>
                  <a:lnTo>
                    <a:pt x="6582" y="125"/>
                  </a:lnTo>
                  <a:lnTo>
                    <a:pt x="6430" y="0"/>
                  </a:lnTo>
                  <a:close/>
                </a:path>
              </a:pathLst>
            </a:custGeom>
            <a:solidFill>
              <a:srgbClr val="ffb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89400" y="2176560"/>
              <a:ext cx="3163680" cy="1349280"/>
            </a:xfrm>
            <a:custGeom>
              <a:avLst/>
              <a:gdLst/>
              <a:ahLst/>
              <a:rect l="l" t="t" r="r" b="b"/>
              <a:pathLst>
                <a:path w="7972" h="4251">
                  <a:moveTo>
                    <a:pt x="7861" y="0"/>
                  </a:moveTo>
                  <a:lnTo>
                    <a:pt x="7704" y="352"/>
                  </a:lnTo>
                  <a:lnTo>
                    <a:pt x="7473" y="570"/>
                  </a:lnTo>
                  <a:lnTo>
                    <a:pt x="7089" y="658"/>
                  </a:lnTo>
                  <a:lnTo>
                    <a:pt x="6395" y="658"/>
                  </a:lnTo>
                  <a:lnTo>
                    <a:pt x="5434" y="483"/>
                  </a:lnTo>
                  <a:lnTo>
                    <a:pt x="5085" y="394"/>
                  </a:lnTo>
                  <a:lnTo>
                    <a:pt x="4548" y="307"/>
                  </a:lnTo>
                  <a:lnTo>
                    <a:pt x="3662" y="89"/>
                  </a:lnTo>
                  <a:lnTo>
                    <a:pt x="3662" y="262"/>
                  </a:lnTo>
                  <a:lnTo>
                    <a:pt x="3122" y="176"/>
                  </a:lnTo>
                  <a:lnTo>
                    <a:pt x="2662" y="44"/>
                  </a:lnTo>
                  <a:lnTo>
                    <a:pt x="2853" y="394"/>
                  </a:lnTo>
                  <a:lnTo>
                    <a:pt x="3045" y="701"/>
                  </a:lnTo>
                  <a:lnTo>
                    <a:pt x="2466" y="789"/>
                  </a:lnTo>
                  <a:lnTo>
                    <a:pt x="2006" y="877"/>
                  </a:lnTo>
                  <a:lnTo>
                    <a:pt x="2121" y="1009"/>
                  </a:lnTo>
                  <a:lnTo>
                    <a:pt x="1618" y="1097"/>
                  </a:lnTo>
                  <a:lnTo>
                    <a:pt x="1119" y="1009"/>
                  </a:lnTo>
                  <a:lnTo>
                    <a:pt x="579" y="746"/>
                  </a:lnTo>
                  <a:lnTo>
                    <a:pt x="234" y="483"/>
                  </a:lnTo>
                  <a:lnTo>
                    <a:pt x="42" y="176"/>
                  </a:lnTo>
                  <a:lnTo>
                    <a:pt x="0" y="2236"/>
                  </a:lnTo>
                  <a:lnTo>
                    <a:pt x="503" y="2280"/>
                  </a:lnTo>
                  <a:lnTo>
                    <a:pt x="1158" y="2630"/>
                  </a:lnTo>
                  <a:lnTo>
                    <a:pt x="1542" y="3024"/>
                  </a:lnTo>
                  <a:lnTo>
                    <a:pt x="1733" y="3549"/>
                  </a:lnTo>
                  <a:lnTo>
                    <a:pt x="1776" y="3768"/>
                  </a:lnTo>
                  <a:lnTo>
                    <a:pt x="1351" y="3768"/>
                  </a:lnTo>
                  <a:lnTo>
                    <a:pt x="733" y="3636"/>
                  </a:lnTo>
                  <a:lnTo>
                    <a:pt x="273" y="3463"/>
                  </a:lnTo>
                  <a:lnTo>
                    <a:pt x="42" y="3331"/>
                  </a:lnTo>
                  <a:lnTo>
                    <a:pt x="82" y="3594"/>
                  </a:lnTo>
                  <a:lnTo>
                    <a:pt x="733" y="3900"/>
                  </a:lnTo>
                  <a:lnTo>
                    <a:pt x="1351" y="4120"/>
                  </a:lnTo>
                  <a:lnTo>
                    <a:pt x="1811" y="4251"/>
                  </a:lnTo>
                  <a:lnTo>
                    <a:pt x="2542" y="4208"/>
                  </a:lnTo>
                  <a:lnTo>
                    <a:pt x="2350" y="3373"/>
                  </a:lnTo>
                  <a:lnTo>
                    <a:pt x="2350" y="1577"/>
                  </a:lnTo>
                  <a:lnTo>
                    <a:pt x="3586" y="701"/>
                  </a:lnTo>
                  <a:lnTo>
                    <a:pt x="4046" y="614"/>
                  </a:lnTo>
                  <a:lnTo>
                    <a:pt x="5586" y="789"/>
                  </a:lnTo>
                  <a:lnTo>
                    <a:pt x="6588" y="877"/>
                  </a:lnTo>
                  <a:lnTo>
                    <a:pt x="7051" y="877"/>
                  </a:lnTo>
                  <a:lnTo>
                    <a:pt x="7435" y="789"/>
                  </a:lnTo>
                  <a:lnTo>
                    <a:pt x="7780" y="570"/>
                  </a:lnTo>
                  <a:lnTo>
                    <a:pt x="7938" y="352"/>
                  </a:lnTo>
                  <a:lnTo>
                    <a:pt x="7972" y="89"/>
                  </a:lnTo>
                  <a:lnTo>
                    <a:pt x="7861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802480" y="1738440"/>
              <a:ext cx="2371680" cy="717480"/>
            </a:xfrm>
            <a:custGeom>
              <a:avLst/>
              <a:gdLst/>
              <a:ahLst/>
              <a:rect l="l" t="t" r="r" b="b"/>
              <a:pathLst>
                <a:path w="5978" h="2257">
                  <a:moveTo>
                    <a:pt x="5854" y="283"/>
                  </a:moveTo>
                  <a:lnTo>
                    <a:pt x="5854" y="423"/>
                  </a:lnTo>
                  <a:lnTo>
                    <a:pt x="5706" y="652"/>
                  </a:lnTo>
                  <a:lnTo>
                    <a:pt x="5408" y="792"/>
                  </a:lnTo>
                  <a:lnTo>
                    <a:pt x="4960" y="846"/>
                  </a:lnTo>
                  <a:lnTo>
                    <a:pt x="4540" y="846"/>
                  </a:lnTo>
                  <a:lnTo>
                    <a:pt x="4240" y="817"/>
                  </a:lnTo>
                  <a:lnTo>
                    <a:pt x="4117" y="763"/>
                  </a:lnTo>
                  <a:lnTo>
                    <a:pt x="4019" y="564"/>
                  </a:lnTo>
                  <a:lnTo>
                    <a:pt x="3969" y="735"/>
                  </a:lnTo>
                  <a:lnTo>
                    <a:pt x="3819" y="817"/>
                  </a:lnTo>
                  <a:lnTo>
                    <a:pt x="3522" y="875"/>
                  </a:lnTo>
                  <a:lnTo>
                    <a:pt x="3099" y="875"/>
                  </a:lnTo>
                  <a:lnTo>
                    <a:pt x="2730" y="817"/>
                  </a:lnTo>
                  <a:lnTo>
                    <a:pt x="2580" y="704"/>
                  </a:lnTo>
                  <a:lnTo>
                    <a:pt x="2405" y="534"/>
                  </a:lnTo>
                  <a:lnTo>
                    <a:pt x="2132" y="704"/>
                  </a:lnTo>
                  <a:lnTo>
                    <a:pt x="1712" y="792"/>
                  </a:lnTo>
                  <a:lnTo>
                    <a:pt x="1166" y="763"/>
                  </a:lnTo>
                  <a:lnTo>
                    <a:pt x="673" y="621"/>
                  </a:lnTo>
                  <a:lnTo>
                    <a:pt x="349" y="452"/>
                  </a:lnTo>
                  <a:lnTo>
                    <a:pt x="149" y="534"/>
                  </a:lnTo>
                  <a:lnTo>
                    <a:pt x="0" y="481"/>
                  </a:lnTo>
                  <a:lnTo>
                    <a:pt x="297" y="792"/>
                  </a:lnTo>
                  <a:lnTo>
                    <a:pt x="642" y="1046"/>
                  </a:lnTo>
                  <a:lnTo>
                    <a:pt x="1094" y="1186"/>
                  </a:lnTo>
                  <a:lnTo>
                    <a:pt x="1783" y="1329"/>
                  </a:lnTo>
                  <a:lnTo>
                    <a:pt x="1835" y="1387"/>
                  </a:lnTo>
                  <a:lnTo>
                    <a:pt x="1835" y="1522"/>
                  </a:lnTo>
                  <a:lnTo>
                    <a:pt x="1783" y="1781"/>
                  </a:lnTo>
                  <a:lnTo>
                    <a:pt x="1635" y="1976"/>
                  </a:lnTo>
                  <a:lnTo>
                    <a:pt x="1340" y="2175"/>
                  </a:lnTo>
                  <a:lnTo>
                    <a:pt x="991" y="2257"/>
                  </a:lnTo>
                  <a:lnTo>
                    <a:pt x="1362" y="2228"/>
                  </a:lnTo>
                  <a:lnTo>
                    <a:pt x="1664" y="2087"/>
                  </a:lnTo>
                  <a:lnTo>
                    <a:pt x="1861" y="1863"/>
                  </a:lnTo>
                  <a:lnTo>
                    <a:pt x="1937" y="1636"/>
                  </a:lnTo>
                  <a:lnTo>
                    <a:pt x="1937" y="1298"/>
                  </a:lnTo>
                  <a:lnTo>
                    <a:pt x="2678" y="1186"/>
                  </a:lnTo>
                  <a:lnTo>
                    <a:pt x="3027" y="1242"/>
                  </a:lnTo>
                  <a:lnTo>
                    <a:pt x="3696" y="1216"/>
                  </a:lnTo>
                  <a:lnTo>
                    <a:pt x="3969" y="1128"/>
                  </a:lnTo>
                  <a:lnTo>
                    <a:pt x="4641" y="1216"/>
                  </a:lnTo>
                  <a:lnTo>
                    <a:pt x="5160" y="1186"/>
                  </a:lnTo>
                  <a:lnTo>
                    <a:pt x="5536" y="1104"/>
                  </a:lnTo>
                  <a:lnTo>
                    <a:pt x="5804" y="959"/>
                  </a:lnTo>
                  <a:lnTo>
                    <a:pt x="5932" y="817"/>
                  </a:lnTo>
                  <a:lnTo>
                    <a:pt x="5978" y="677"/>
                  </a:lnTo>
                  <a:lnTo>
                    <a:pt x="5978" y="423"/>
                  </a:lnTo>
                  <a:lnTo>
                    <a:pt x="5952" y="283"/>
                  </a:lnTo>
                  <a:lnTo>
                    <a:pt x="5804" y="82"/>
                  </a:lnTo>
                  <a:lnTo>
                    <a:pt x="5632" y="0"/>
                  </a:lnTo>
                  <a:lnTo>
                    <a:pt x="5782" y="140"/>
                  </a:lnTo>
                  <a:lnTo>
                    <a:pt x="5854" y="28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969160" y="2052720"/>
              <a:ext cx="156960" cy="179280"/>
            </a:xfrm>
            <a:custGeom>
              <a:avLst/>
              <a:gdLst/>
              <a:ahLst/>
              <a:rect l="l" t="t" r="r" b="b"/>
              <a:pathLst>
                <a:path w="397" h="565">
                  <a:moveTo>
                    <a:pt x="372" y="59"/>
                  </a:moveTo>
                  <a:lnTo>
                    <a:pt x="125" y="282"/>
                  </a:lnTo>
                  <a:lnTo>
                    <a:pt x="202" y="423"/>
                  </a:lnTo>
                  <a:lnTo>
                    <a:pt x="397" y="565"/>
                  </a:lnTo>
                  <a:lnTo>
                    <a:pt x="175" y="482"/>
                  </a:lnTo>
                  <a:lnTo>
                    <a:pt x="52" y="366"/>
                  </a:lnTo>
                  <a:lnTo>
                    <a:pt x="0" y="255"/>
                  </a:lnTo>
                  <a:lnTo>
                    <a:pt x="27" y="171"/>
                  </a:lnTo>
                  <a:lnTo>
                    <a:pt x="74" y="84"/>
                  </a:lnTo>
                  <a:lnTo>
                    <a:pt x="175" y="0"/>
                  </a:lnTo>
                  <a:lnTo>
                    <a:pt x="372" y="59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32400" y="2259000"/>
              <a:ext cx="1319040" cy="225360"/>
            </a:xfrm>
            <a:custGeom>
              <a:avLst/>
              <a:gdLst/>
              <a:ahLst/>
              <a:rect l="l" t="t" r="r" b="b"/>
              <a:pathLst>
                <a:path w="3325" h="710">
                  <a:moveTo>
                    <a:pt x="3325" y="621"/>
                  </a:moveTo>
                  <a:lnTo>
                    <a:pt x="2703" y="481"/>
                  </a:lnTo>
                  <a:lnTo>
                    <a:pt x="2210" y="340"/>
                  </a:lnTo>
                  <a:lnTo>
                    <a:pt x="1588" y="316"/>
                  </a:lnTo>
                  <a:lnTo>
                    <a:pt x="1388" y="227"/>
                  </a:lnTo>
                  <a:lnTo>
                    <a:pt x="1042" y="87"/>
                  </a:lnTo>
                  <a:lnTo>
                    <a:pt x="1141" y="285"/>
                  </a:lnTo>
                  <a:lnTo>
                    <a:pt x="744" y="285"/>
                  </a:lnTo>
                  <a:lnTo>
                    <a:pt x="324" y="169"/>
                  </a:lnTo>
                  <a:lnTo>
                    <a:pt x="0" y="0"/>
                  </a:lnTo>
                  <a:lnTo>
                    <a:pt x="225" y="258"/>
                  </a:lnTo>
                  <a:lnTo>
                    <a:pt x="673" y="428"/>
                  </a:lnTo>
                  <a:lnTo>
                    <a:pt x="621" y="568"/>
                  </a:lnTo>
                  <a:lnTo>
                    <a:pt x="771" y="481"/>
                  </a:lnTo>
                  <a:lnTo>
                    <a:pt x="1017" y="428"/>
                  </a:lnTo>
                  <a:lnTo>
                    <a:pt x="1315" y="481"/>
                  </a:lnTo>
                  <a:lnTo>
                    <a:pt x="1639" y="568"/>
                  </a:lnTo>
                  <a:lnTo>
                    <a:pt x="1937" y="592"/>
                  </a:lnTo>
                  <a:lnTo>
                    <a:pt x="2159" y="710"/>
                  </a:lnTo>
                  <a:lnTo>
                    <a:pt x="2508" y="652"/>
                  </a:lnTo>
                  <a:lnTo>
                    <a:pt x="2806" y="621"/>
                  </a:lnTo>
                  <a:lnTo>
                    <a:pt x="3325" y="621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768920" y="2455920"/>
              <a:ext cx="1614240" cy="574560"/>
            </a:xfrm>
            <a:custGeom>
              <a:avLst/>
              <a:gdLst/>
              <a:ahLst/>
              <a:rect l="l" t="t" r="r" b="b"/>
              <a:pathLst>
                <a:path w="4071" h="1812">
                  <a:moveTo>
                    <a:pt x="3747" y="31"/>
                  </a:moveTo>
                  <a:lnTo>
                    <a:pt x="4020" y="372"/>
                  </a:lnTo>
                  <a:lnTo>
                    <a:pt x="4071" y="736"/>
                  </a:lnTo>
                  <a:lnTo>
                    <a:pt x="3993" y="1135"/>
                  </a:lnTo>
                  <a:lnTo>
                    <a:pt x="3896" y="1330"/>
                  </a:lnTo>
                  <a:lnTo>
                    <a:pt x="3670" y="1471"/>
                  </a:lnTo>
                  <a:lnTo>
                    <a:pt x="2729" y="1812"/>
                  </a:lnTo>
                  <a:lnTo>
                    <a:pt x="2482" y="1782"/>
                  </a:lnTo>
                  <a:lnTo>
                    <a:pt x="894" y="1553"/>
                  </a:lnTo>
                  <a:lnTo>
                    <a:pt x="719" y="1500"/>
                  </a:lnTo>
                  <a:lnTo>
                    <a:pt x="399" y="1189"/>
                  </a:lnTo>
                  <a:lnTo>
                    <a:pt x="0" y="879"/>
                  </a:lnTo>
                  <a:lnTo>
                    <a:pt x="446" y="1135"/>
                  </a:lnTo>
                  <a:lnTo>
                    <a:pt x="596" y="965"/>
                  </a:lnTo>
                  <a:lnTo>
                    <a:pt x="621" y="879"/>
                  </a:lnTo>
                  <a:lnTo>
                    <a:pt x="571" y="341"/>
                  </a:lnTo>
                  <a:lnTo>
                    <a:pt x="694" y="766"/>
                  </a:lnTo>
                  <a:lnTo>
                    <a:pt x="719" y="965"/>
                  </a:lnTo>
                  <a:lnTo>
                    <a:pt x="967" y="1135"/>
                  </a:lnTo>
                  <a:lnTo>
                    <a:pt x="1192" y="1160"/>
                  </a:lnTo>
                  <a:lnTo>
                    <a:pt x="1464" y="1077"/>
                  </a:lnTo>
                  <a:lnTo>
                    <a:pt x="2534" y="1135"/>
                  </a:lnTo>
                  <a:lnTo>
                    <a:pt x="3078" y="1102"/>
                  </a:lnTo>
                  <a:lnTo>
                    <a:pt x="3700" y="965"/>
                  </a:lnTo>
                  <a:lnTo>
                    <a:pt x="3798" y="853"/>
                  </a:lnTo>
                  <a:lnTo>
                    <a:pt x="3849" y="736"/>
                  </a:lnTo>
                  <a:lnTo>
                    <a:pt x="3870" y="483"/>
                  </a:lnTo>
                  <a:lnTo>
                    <a:pt x="3772" y="283"/>
                  </a:lnTo>
                  <a:lnTo>
                    <a:pt x="3500" y="0"/>
                  </a:lnTo>
                  <a:lnTo>
                    <a:pt x="3747" y="3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473720" y="2878200"/>
              <a:ext cx="1523880" cy="563400"/>
            </a:xfrm>
            <a:custGeom>
              <a:avLst/>
              <a:gdLst/>
              <a:ahLst/>
              <a:rect l="l" t="t" r="r" b="b"/>
              <a:pathLst>
                <a:path w="3842" h="1777">
                  <a:moveTo>
                    <a:pt x="3719" y="282"/>
                  </a:moveTo>
                  <a:lnTo>
                    <a:pt x="3842" y="818"/>
                  </a:lnTo>
                  <a:lnTo>
                    <a:pt x="3820" y="1129"/>
                  </a:lnTo>
                  <a:lnTo>
                    <a:pt x="3645" y="1443"/>
                  </a:lnTo>
                  <a:lnTo>
                    <a:pt x="3399" y="1554"/>
                  </a:lnTo>
                  <a:lnTo>
                    <a:pt x="2057" y="1777"/>
                  </a:lnTo>
                  <a:lnTo>
                    <a:pt x="1785" y="1777"/>
                  </a:lnTo>
                  <a:lnTo>
                    <a:pt x="1461" y="1612"/>
                  </a:lnTo>
                  <a:lnTo>
                    <a:pt x="346" y="706"/>
                  </a:lnTo>
                  <a:lnTo>
                    <a:pt x="22" y="223"/>
                  </a:lnTo>
                  <a:lnTo>
                    <a:pt x="0" y="0"/>
                  </a:lnTo>
                  <a:lnTo>
                    <a:pt x="248" y="394"/>
                  </a:lnTo>
                  <a:lnTo>
                    <a:pt x="346" y="424"/>
                  </a:lnTo>
                  <a:lnTo>
                    <a:pt x="494" y="365"/>
                  </a:lnTo>
                  <a:lnTo>
                    <a:pt x="542" y="282"/>
                  </a:lnTo>
                  <a:lnTo>
                    <a:pt x="644" y="83"/>
                  </a:lnTo>
                  <a:lnTo>
                    <a:pt x="618" y="223"/>
                  </a:lnTo>
                  <a:lnTo>
                    <a:pt x="542" y="482"/>
                  </a:lnTo>
                  <a:lnTo>
                    <a:pt x="1338" y="959"/>
                  </a:lnTo>
                  <a:lnTo>
                    <a:pt x="1584" y="1042"/>
                  </a:lnTo>
                  <a:lnTo>
                    <a:pt x="1835" y="1042"/>
                  </a:lnTo>
                  <a:lnTo>
                    <a:pt x="3198" y="989"/>
                  </a:lnTo>
                  <a:lnTo>
                    <a:pt x="3420" y="929"/>
                  </a:lnTo>
                  <a:lnTo>
                    <a:pt x="3522" y="793"/>
                  </a:lnTo>
                  <a:lnTo>
                    <a:pt x="3547" y="677"/>
                  </a:lnTo>
                  <a:lnTo>
                    <a:pt x="3547" y="564"/>
                  </a:lnTo>
                  <a:lnTo>
                    <a:pt x="3497" y="394"/>
                  </a:lnTo>
                  <a:lnTo>
                    <a:pt x="3719" y="28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14680" y="3300480"/>
              <a:ext cx="1132200" cy="376200"/>
            </a:xfrm>
            <a:custGeom>
              <a:avLst/>
              <a:gdLst/>
              <a:ahLst/>
              <a:rect l="l" t="t" r="r" b="b"/>
              <a:pathLst>
                <a:path w="2853" h="1186">
                  <a:moveTo>
                    <a:pt x="2853" y="282"/>
                  </a:moveTo>
                  <a:lnTo>
                    <a:pt x="2853" y="593"/>
                  </a:lnTo>
                  <a:lnTo>
                    <a:pt x="2750" y="901"/>
                  </a:lnTo>
                  <a:lnTo>
                    <a:pt x="2601" y="1069"/>
                  </a:lnTo>
                  <a:lnTo>
                    <a:pt x="2354" y="1186"/>
                  </a:lnTo>
                  <a:lnTo>
                    <a:pt x="2104" y="1186"/>
                  </a:lnTo>
                  <a:lnTo>
                    <a:pt x="1682" y="1152"/>
                  </a:lnTo>
                  <a:lnTo>
                    <a:pt x="1090" y="901"/>
                  </a:lnTo>
                  <a:lnTo>
                    <a:pt x="570" y="593"/>
                  </a:lnTo>
                  <a:lnTo>
                    <a:pt x="246" y="282"/>
                  </a:lnTo>
                  <a:lnTo>
                    <a:pt x="0" y="0"/>
                  </a:lnTo>
                  <a:lnTo>
                    <a:pt x="320" y="193"/>
                  </a:lnTo>
                  <a:lnTo>
                    <a:pt x="519" y="224"/>
                  </a:lnTo>
                  <a:lnTo>
                    <a:pt x="642" y="165"/>
                  </a:lnTo>
                  <a:lnTo>
                    <a:pt x="766" y="113"/>
                  </a:lnTo>
                  <a:lnTo>
                    <a:pt x="864" y="336"/>
                  </a:lnTo>
                  <a:lnTo>
                    <a:pt x="1759" y="733"/>
                  </a:lnTo>
                  <a:lnTo>
                    <a:pt x="2133" y="789"/>
                  </a:lnTo>
                  <a:lnTo>
                    <a:pt x="2379" y="789"/>
                  </a:lnTo>
                  <a:lnTo>
                    <a:pt x="2529" y="733"/>
                  </a:lnTo>
                  <a:lnTo>
                    <a:pt x="2601" y="647"/>
                  </a:lnTo>
                  <a:lnTo>
                    <a:pt x="2652" y="534"/>
                  </a:lnTo>
                  <a:lnTo>
                    <a:pt x="2678" y="311"/>
                  </a:lnTo>
                  <a:lnTo>
                    <a:pt x="2853" y="28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60920" y="1620720"/>
              <a:ext cx="1054080" cy="252360"/>
            </a:xfrm>
            <a:custGeom>
              <a:avLst/>
              <a:gdLst/>
              <a:ahLst/>
              <a:rect l="l" t="t" r="r" b="b"/>
              <a:pathLst>
                <a:path w="2656" h="795">
                  <a:moveTo>
                    <a:pt x="2656" y="795"/>
                  </a:moveTo>
                  <a:lnTo>
                    <a:pt x="1587" y="399"/>
                  </a:lnTo>
                  <a:lnTo>
                    <a:pt x="817" y="171"/>
                  </a:lnTo>
                  <a:lnTo>
                    <a:pt x="447" y="0"/>
                  </a:lnTo>
                  <a:lnTo>
                    <a:pt x="0" y="117"/>
                  </a:lnTo>
                  <a:lnTo>
                    <a:pt x="544" y="171"/>
                  </a:lnTo>
                  <a:lnTo>
                    <a:pt x="1808" y="512"/>
                  </a:lnTo>
                  <a:lnTo>
                    <a:pt x="2656" y="795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753160" y="1936800"/>
              <a:ext cx="136440" cy="34920"/>
            </a:xfrm>
            <a:custGeom>
              <a:avLst/>
              <a:gdLst/>
              <a:ahLst/>
              <a:rect l="l" t="t" r="r" b="b"/>
              <a:pathLst>
                <a:path w="345" h="114">
                  <a:moveTo>
                    <a:pt x="345" y="56"/>
                  </a:moveTo>
                  <a:lnTo>
                    <a:pt x="124" y="114"/>
                  </a:lnTo>
                  <a:lnTo>
                    <a:pt x="0" y="83"/>
                  </a:lnTo>
                  <a:lnTo>
                    <a:pt x="247" y="0"/>
                  </a:lnTo>
                  <a:lnTo>
                    <a:pt x="345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24640" y="1873080"/>
              <a:ext cx="156960" cy="108000"/>
            </a:xfrm>
            <a:custGeom>
              <a:avLst/>
              <a:gdLst/>
              <a:ahLst/>
              <a:rect l="l" t="t" r="r" b="b"/>
              <a:pathLst>
                <a:path w="396" h="340">
                  <a:moveTo>
                    <a:pt x="396" y="29"/>
                  </a:moveTo>
                  <a:lnTo>
                    <a:pt x="150" y="198"/>
                  </a:lnTo>
                  <a:lnTo>
                    <a:pt x="0" y="340"/>
                  </a:lnTo>
                  <a:lnTo>
                    <a:pt x="98" y="141"/>
                  </a:lnTo>
                  <a:lnTo>
                    <a:pt x="248" y="0"/>
                  </a:lnTo>
                  <a:lnTo>
                    <a:pt x="39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749840" y="2465280"/>
              <a:ext cx="216000" cy="98640"/>
            </a:xfrm>
            <a:custGeom>
              <a:avLst/>
              <a:gdLst/>
              <a:ahLst/>
              <a:rect l="l" t="t" r="r" b="b"/>
              <a:pathLst>
                <a:path w="546" h="310">
                  <a:moveTo>
                    <a:pt x="494" y="0"/>
                  </a:moveTo>
                  <a:lnTo>
                    <a:pt x="248" y="28"/>
                  </a:lnTo>
                  <a:lnTo>
                    <a:pt x="48" y="140"/>
                  </a:lnTo>
                  <a:lnTo>
                    <a:pt x="0" y="310"/>
                  </a:lnTo>
                  <a:lnTo>
                    <a:pt x="98" y="223"/>
                  </a:lnTo>
                  <a:lnTo>
                    <a:pt x="320" y="111"/>
                  </a:lnTo>
                  <a:lnTo>
                    <a:pt x="546" y="111"/>
                  </a:lnTo>
                  <a:lnTo>
                    <a:pt x="494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89400" y="2330280"/>
              <a:ext cx="1428840" cy="1194120"/>
            </a:xfrm>
            <a:custGeom>
              <a:avLst/>
              <a:gdLst/>
              <a:ahLst/>
              <a:rect l="l" t="t" r="r" b="b"/>
              <a:pathLst>
                <a:path w="3599" h="3759">
                  <a:moveTo>
                    <a:pt x="3377" y="453"/>
                  </a:moveTo>
                  <a:lnTo>
                    <a:pt x="3254" y="677"/>
                  </a:lnTo>
                  <a:lnTo>
                    <a:pt x="3254" y="906"/>
                  </a:lnTo>
                  <a:lnTo>
                    <a:pt x="3304" y="1102"/>
                  </a:lnTo>
                  <a:lnTo>
                    <a:pt x="3427" y="1247"/>
                  </a:lnTo>
                  <a:lnTo>
                    <a:pt x="3427" y="1441"/>
                  </a:lnTo>
                  <a:lnTo>
                    <a:pt x="3155" y="1213"/>
                  </a:lnTo>
                  <a:lnTo>
                    <a:pt x="2930" y="1273"/>
                  </a:lnTo>
                  <a:lnTo>
                    <a:pt x="2780" y="1384"/>
                  </a:lnTo>
                  <a:lnTo>
                    <a:pt x="2704" y="1554"/>
                  </a:lnTo>
                  <a:lnTo>
                    <a:pt x="2733" y="1782"/>
                  </a:lnTo>
                  <a:lnTo>
                    <a:pt x="2905" y="2176"/>
                  </a:lnTo>
                  <a:lnTo>
                    <a:pt x="3006" y="2347"/>
                  </a:lnTo>
                  <a:lnTo>
                    <a:pt x="2780" y="2288"/>
                  </a:lnTo>
                  <a:lnTo>
                    <a:pt x="2605" y="2430"/>
                  </a:lnTo>
                  <a:lnTo>
                    <a:pt x="2482" y="2570"/>
                  </a:lnTo>
                  <a:lnTo>
                    <a:pt x="2482" y="2766"/>
                  </a:lnTo>
                  <a:lnTo>
                    <a:pt x="2534" y="2995"/>
                  </a:lnTo>
                  <a:lnTo>
                    <a:pt x="2780" y="3278"/>
                  </a:lnTo>
                  <a:lnTo>
                    <a:pt x="3377" y="3730"/>
                  </a:lnTo>
                  <a:lnTo>
                    <a:pt x="2955" y="3759"/>
                  </a:lnTo>
                  <a:lnTo>
                    <a:pt x="2359" y="3759"/>
                  </a:lnTo>
                  <a:lnTo>
                    <a:pt x="1763" y="3759"/>
                  </a:lnTo>
                  <a:lnTo>
                    <a:pt x="1243" y="3618"/>
                  </a:lnTo>
                  <a:lnTo>
                    <a:pt x="745" y="3448"/>
                  </a:lnTo>
                  <a:lnTo>
                    <a:pt x="0" y="3054"/>
                  </a:lnTo>
                  <a:lnTo>
                    <a:pt x="847" y="3418"/>
                  </a:lnTo>
                  <a:lnTo>
                    <a:pt x="1563" y="3618"/>
                  </a:lnTo>
                  <a:lnTo>
                    <a:pt x="2261" y="3647"/>
                  </a:lnTo>
                  <a:lnTo>
                    <a:pt x="2261" y="3247"/>
                  </a:lnTo>
                  <a:lnTo>
                    <a:pt x="2133" y="2853"/>
                  </a:lnTo>
                  <a:lnTo>
                    <a:pt x="1938" y="2517"/>
                  </a:lnTo>
                  <a:lnTo>
                    <a:pt x="1614" y="2148"/>
                  </a:lnTo>
                  <a:lnTo>
                    <a:pt x="1243" y="1865"/>
                  </a:lnTo>
                  <a:lnTo>
                    <a:pt x="869" y="1667"/>
                  </a:lnTo>
                  <a:lnTo>
                    <a:pt x="421" y="1529"/>
                  </a:lnTo>
                  <a:lnTo>
                    <a:pt x="25" y="1496"/>
                  </a:lnTo>
                  <a:lnTo>
                    <a:pt x="25" y="0"/>
                  </a:lnTo>
                  <a:lnTo>
                    <a:pt x="549" y="536"/>
                  </a:lnTo>
                  <a:lnTo>
                    <a:pt x="992" y="794"/>
                  </a:lnTo>
                  <a:lnTo>
                    <a:pt x="1392" y="906"/>
                  </a:lnTo>
                  <a:lnTo>
                    <a:pt x="1887" y="906"/>
                  </a:lnTo>
                  <a:lnTo>
                    <a:pt x="1665" y="766"/>
                  </a:lnTo>
                  <a:lnTo>
                    <a:pt x="2209" y="766"/>
                  </a:lnTo>
                  <a:lnTo>
                    <a:pt x="2632" y="708"/>
                  </a:lnTo>
                  <a:lnTo>
                    <a:pt x="2930" y="595"/>
                  </a:lnTo>
                  <a:lnTo>
                    <a:pt x="2605" y="453"/>
                  </a:lnTo>
                  <a:lnTo>
                    <a:pt x="3028" y="394"/>
                  </a:lnTo>
                  <a:lnTo>
                    <a:pt x="3326" y="282"/>
                  </a:lnTo>
                  <a:lnTo>
                    <a:pt x="3552" y="171"/>
                  </a:lnTo>
                  <a:lnTo>
                    <a:pt x="3599" y="254"/>
                  </a:lnTo>
                  <a:lnTo>
                    <a:pt x="3377" y="4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349800" y="1549440"/>
              <a:ext cx="4628880" cy="2017800"/>
            </a:xfrm>
            <a:custGeom>
              <a:avLst/>
              <a:gdLst/>
              <a:ahLst/>
              <a:rect l="l" t="t" r="r" b="b"/>
              <a:pathLst>
                <a:path w="11663" h="6354">
                  <a:moveTo>
                    <a:pt x="11663" y="507"/>
                  </a:moveTo>
                  <a:lnTo>
                    <a:pt x="10224" y="341"/>
                  </a:lnTo>
                  <a:lnTo>
                    <a:pt x="9329" y="313"/>
                  </a:lnTo>
                  <a:lnTo>
                    <a:pt x="8461" y="224"/>
                  </a:lnTo>
                  <a:lnTo>
                    <a:pt x="7098" y="224"/>
                  </a:lnTo>
                  <a:lnTo>
                    <a:pt x="5310" y="142"/>
                  </a:lnTo>
                  <a:lnTo>
                    <a:pt x="4415" y="59"/>
                  </a:lnTo>
                  <a:lnTo>
                    <a:pt x="3773" y="0"/>
                  </a:lnTo>
                  <a:lnTo>
                    <a:pt x="3373" y="31"/>
                  </a:lnTo>
                  <a:lnTo>
                    <a:pt x="2905" y="171"/>
                  </a:lnTo>
                  <a:lnTo>
                    <a:pt x="1985" y="541"/>
                  </a:lnTo>
                  <a:lnTo>
                    <a:pt x="1166" y="906"/>
                  </a:lnTo>
                  <a:lnTo>
                    <a:pt x="349" y="1248"/>
                  </a:lnTo>
                  <a:lnTo>
                    <a:pt x="247" y="906"/>
                  </a:lnTo>
                  <a:lnTo>
                    <a:pt x="150" y="879"/>
                  </a:lnTo>
                  <a:lnTo>
                    <a:pt x="76" y="1413"/>
                  </a:lnTo>
                  <a:lnTo>
                    <a:pt x="0" y="2430"/>
                  </a:lnTo>
                  <a:lnTo>
                    <a:pt x="25" y="3787"/>
                  </a:lnTo>
                  <a:lnTo>
                    <a:pt x="51" y="5566"/>
                  </a:lnTo>
                  <a:lnTo>
                    <a:pt x="98" y="6354"/>
                  </a:lnTo>
                  <a:lnTo>
                    <a:pt x="217" y="6311"/>
                  </a:lnTo>
                  <a:lnTo>
                    <a:pt x="293" y="5653"/>
                  </a:lnTo>
                  <a:lnTo>
                    <a:pt x="175" y="5541"/>
                  </a:lnTo>
                  <a:lnTo>
                    <a:pt x="123" y="3818"/>
                  </a:lnTo>
                  <a:lnTo>
                    <a:pt x="150" y="2207"/>
                  </a:lnTo>
                  <a:lnTo>
                    <a:pt x="226" y="1359"/>
                  </a:lnTo>
                  <a:lnTo>
                    <a:pt x="3028" y="201"/>
                  </a:lnTo>
                  <a:lnTo>
                    <a:pt x="3697" y="59"/>
                  </a:lnTo>
                  <a:lnTo>
                    <a:pt x="4220" y="142"/>
                  </a:lnTo>
                  <a:lnTo>
                    <a:pt x="4986" y="224"/>
                  </a:lnTo>
                  <a:lnTo>
                    <a:pt x="5859" y="260"/>
                  </a:lnTo>
                  <a:lnTo>
                    <a:pt x="7022" y="313"/>
                  </a:lnTo>
                  <a:lnTo>
                    <a:pt x="8239" y="313"/>
                  </a:lnTo>
                  <a:lnTo>
                    <a:pt x="9329" y="395"/>
                  </a:lnTo>
                  <a:lnTo>
                    <a:pt x="10271" y="430"/>
                  </a:lnTo>
                  <a:lnTo>
                    <a:pt x="10842" y="483"/>
                  </a:lnTo>
                  <a:lnTo>
                    <a:pt x="11663" y="507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92800" y="3165480"/>
              <a:ext cx="107640" cy="108000"/>
            </a:xfrm>
            <a:custGeom>
              <a:avLst/>
              <a:gdLst/>
              <a:ahLst/>
              <a:rect l="l" t="t" r="r" b="b"/>
              <a:pathLst>
                <a:path w="273" h="342">
                  <a:moveTo>
                    <a:pt x="273" y="0"/>
                  </a:moveTo>
                  <a:lnTo>
                    <a:pt x="273" y="224"/>
                  </a:lnTo>
                  <a:lnTo>
                    <a:pt x="201" y="307"/>
                  </a:lnTo>
                  <a:lnTo>
                    <a:pt x="0" y="342"/>
                  </a:lnTo>
                  <a:lnTo>
                    <a:pt x="150" y="195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637000" y="1728720"/>
              <a:ext cx="431640" cy="114480"/>
            </a:xfrm>
            <a:custGeom>
              <a:avLst/>
              <a:gdLst/>
              <a:ahLst/>
              <a:rect l="l" t="t" r="r" b="b"/>
              <a:pathLst>
                <a:path w="1088" h="361">
                  <a:moveTo>
                    <a:pt x="1088" y="0"/>
                  </a:moveTo>
                  <a:lnTo>
                    <a:pt x="0" y="0"/>
                  </a:lnTo>
                  <a:lnTo>
                    <a:pt x="0" y="165"/>
                  </a:lnTo>
                  <a:lnTo>
                    <a:pt x="240" y="361"/>
                  </a:lnTo>
                  <a:lnTo>
                    <a:pt x="524" y="165"/>
                  </a:lnTo>
                  <a:lnTo>
                    <a:pt x="726" y="201"/>
                  </a:lnTo>
                  <a:lnTo>
                    <a:pt x="901" y="93"/>
                  </a:lnTo>
                  <a:lnTo>
                    <a:pt x="10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946240" y="1730520"/>
              <a:ext cx="443160" cy="2017440"/>
            </a:xfrm>
            <a:custGeom>
              <a:avLst/>
              <a:gdLst/>
              <a:ahLst/>
              <a:rect l="l" t="t" r="r" b="b"/>
              <a:pathLst>
                <a:path w="1116" h="6352">
                  <a:moveTo>
                    <a:pt x="964" y="263"/>
                  </a:moveTo>
                  <a:lnTo>
                    <a:pt x="541" y="263"/>
                  </a:lnTo>
                  <a:lnTo>
                    <a:pt x="425" y="0"/>
                  </a:lnTo>
                  <a:lnTo>
                    <a:pt x="197" y="744"/>
                  </a:lnTo>
                  <a:lnTo>
                    <a:pt x="0" y="2147"/>
                  </a:lnTo>
                  <a:lnTo>
                    <a:pt x="0" y="3768"/>
                  </a:lnTo>
                  <a:lnTo>
                    <a:pt x="158" y="6352"/>
                  </a:lnTo>
                  <a:lnTo>
                    <a:pt x="465" y="6314"/>
                  </a:lnTo>
                  <a:lnTo>
                    <a:pt x="618" y="5783"/>
                  </a:lnTo>
                  <a:lnTo>
                    <a:pt x="1116" y="5783"/>
                  </a:lnTo>
                  <a:lnTo>
                    <a:pt x="694" y="5258"/>
                  </a:lnTo>
                  <a:lnTo>
                    <a:pt x="465" y="5564"/>
                  </a:lnTo>
                  <a:lnTo>
                    <a:pt x="349" y="4643"/>
                  </a:lnTo>
                  <a:lnTo>
                    <a:pt x="273" y="3329"/>
                  </a:lnTo>
                  <a:lnTo>
                    <a:pt x="273" y="2102"/>
                  </a:lnTo>
                  <a:lnTo>
                    <a:pt x="308" y="1269"/>
                  </a:lnTo>
                  <a:lnTo>
                    <a:pt x="425" y="394"/>
                  </a:lnTo>
                  <a:lnTo>
                    <a:pt x="964" y="2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639880" y="3427560"/>
              <a:ext cx="384480" cy="320400"/>
            </a:xfrm>
            <a:custGeom>
              <a:avLst/>
              <a:gdLst/>
              <a:ahLst/>
              <a:rect l="l" t="t" r="r" b="b"/>
              <a:pathLst>
                <a:path w="967" h="1007">
                  <a:moveTo>
                    <a:pt x="967" y="1007"/>
                  </a:moveTo>
                  <a:lnTo>
                    <a:pt x="579" y="0"/>
                  </a:lnTo>
                  <a:lnTo>
                    <a:pt x="349" y="526"/>
                  </a:lnTo>
                  <a:lnTo>
                    <a:pt x="0" y="131"/>
                  </a:lnTo>
                  <a:lnTo>
                    <a:pt x="0" y="1007"/>
                  </a:lnTo>
                  <a:lnTo>
                    <a:pt x="967" y="10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715400" y="3809880"/>
            <a:ext cx="721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Case for the Market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51560" y="4483080"/>
            <a:ext cx="2915640" cy="20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Effici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Incen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Freed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47960" y="82440"/>
            <a:ext cx="697536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Times New Roman"/>
              </a:rPr>
              <a:t>COMPETITION AN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Times New Roman"/>
              </a:rPr>
              <a:t>THE INVISIBLE HAN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1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2300400" y="169920"/>
            <a:ext cx="4522680" cy="1006560"/>
          </a:xfrm>
          <a:prstGeom prst="rect">
            <a:avLst/>
          </a:prstGeom>
        </p:spPr>
        <p:txBody>
          <a:bodyPr wrap="none" lIns="91800" rIns="91800" anchor="ctr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ffff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KEY TERM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c0000"/>
                  </a:gs>
                  <a:gs pos="100000">
                    <a:srgbClr val="ffff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7920" y="1137240"/>
            <a:ext cx="42829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privat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freedom of enterp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freedom of ch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self-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roundabout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spe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division of lab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medium of 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ba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660920" y="1135440"/>
            <a:ext cx="4432320" cy="53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Four Fundamental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economic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normal pro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economic pro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expanding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declining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8" action="ppaction://hlinksldjump"/>
              </a:rPr>
              <a:t>consumer sovereig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dollar v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0" action="ppaction://hlinksldjump"/>
              </a:rPr>
              <a:t>derived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guiding function of 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2" action="ppaction://hlinksldjump"/>
              </a:rPr>
              <a:t>creative de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“invisible han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1200" y="6549840"/>
            <a:ext cx="357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opyright McGraw-Hill/Irwin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>
            <a:hlinkClick r:id="" action="ppaction://hlinkshowjump?jump=previousslide"/>
          </p:cNvPr>
          <p:cNvSpPr/>
          <p:nvPr/>
        </p:nvSpPr>
        <p:spPr>
          <a:xfrm>
            <a:off x="8042400" y="6372360"/>
            <a:ext cx="384120" cy="237960"/>
          </a:xfrm>
          <a:custGeom>
            <a:avLst/>
            <a:gdLst>
              <a:gd name="textAreaLeft" fmla="*/ 15120 w 384120"/>
              <a:gd name="textAreaRight" fmla="*/ 369000 w 384120"/>
              <a:gd name="textAreaTop" fmla="*/ 15120 h 237960"/>
              <a:gd name="textAreaBottom" fmla="*/ 222840 h 237960"/>
            </a:gdLst>
            <a:ahLst/>
            <a:rect l="textAreaLeft" t="textAreaTop" r="textAreaRight" b="textAreaBottom"/>
            <a:pathLst>
              <a:path w="34847" h="21600">
                <a:moveTo>
                  <a:pt x="0" y="0"/>
                </a:moveTo>
                <a:lnTo>
                  <a:pt x="34847" y="0"/>
                </a:lnTo>
                <a:lnTo>
                  <a:pt x="34847" y="21600"/>
                </a:lnTo>
                <a:lnTo>
                  <a:pt x="0" y="21600"/>
                </a:lnTo>
                <a:close/>
              </a:path>
              <a:path fill="lightenLess" w="34847" h="21600">
                <a:moveTo>
                  <a:pt x="0" y="0"/>
                </a:moveTo>
                <a:lnTo>
                  <a:pt x="34847" y="0"/>
                </a:lnTo>
                <a:lnTo>
                  <a:pt x="33447" y="1400"/>
                </a:lnTo>
                <a:lnTo>
                  <a:pt x="1400" y="1400"/>
                </a:lnTo>
                <a:close/>
              </a:path>
              <a:path fill="darken" w="34847" h="21600">
                <a:moveTo>
                  <a:pt x="34847" y="0"/>
                </a:moveTo>
                <a:lnTo>
                  <a:pt x="34847" y="21600"/>
                </a:lnTo>
                <a:lnTo>
                  <a:pt x="33447" y="20200"/>
                </a:lnTo>
                <a:lnTo>
                  <a:pt x="33447" y="1400"/>
                </a:lnTo>
                <a:close/>
              </a:path>
              <a:path fill="darkenLess" w="34847" h="21600">
                <a:moveTo>
                  <a:pt x="348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47" y="20200"/>
                </a:lnTo>
                <a:close/>
              </a:path>
              <a:path fill="lighten" w="348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47" h="21600">
                <a:moveTo>
                  <a:pt x="10417" y="10800"/>
                </a:moveTo>
                <a:lnTo>
                  <a:pt x="24430" y="3794"/>
                </a:lnTo>
                <a:lnTo>
                  <a:pt x="24430" y="17806"/>
                </a:lnTo>
                <a:close/>
              </a:path>
            </a:pathLst>
          </a:custGeom>
          <a:solidFill>
            <a:srgbClr val="cc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>
            <a:hlinkClick r:id="" action="ppaction://hlinkshowjump?jump=previousslide"/>
          </p:cNvPr>
          <p:cNvSpPr/>
          <p:nvPr/>
        </p:nvSpPr>
        <p:spPr>
          <a:xfrm>
            <a:off x="7920000" y="656892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>
            <a:hlinkClick r:id="rId24" action="ppaction://hlinksldjump"/>
          </p:cNvPr>
          <p:cNvSpPr/>
          <p:nvPr/>
        </p:nvSpPr>
        <p:spPr>
          <a:xfrm>
            <a:off x="8564400" y="6372360"/>
            <a:ext cx="366840" cy="230040"/>
          </a:xfrm>
          <a:custGeom>
            <a:avLst/>
            <a:gdLst>
              <a:gd name="textAreaLeft" fmla="*/ 14760 w 366840"/>
              <a:gd name="textAreaRight" fmla="*/ 352080 w 366840"/>
              <a:gd name="textAreaTop" fmla="*/ 14760 h 230040"/>
              <a:gd name="textAreaBottom" fmla="*/ 215280 h 230040"/>
            </a:gdLst>
            <a:ahLst/>
            <a:rect l="textAreaLeft" t="textAreaTop" r="textAreaRight" b="textAreaBottom"/>
            <a:pathLst>
              <a:path w="34425" h="21600">
                <a:moveTo>
                  <a:pt x="0" y="0"/>
                </a:moveTo>
                <a:lnTo>
                  <a:pt x="34425" y="0"/>
                </a:lnTo>
                <a:lnTo>
                  <a:pt x="34425" y="21600"/>
                </a:lnTo>
                <a:lnTo>
                  <a:pt x="0" y="21600"/>
                </a:lnTo>
                <a:close/>
              </a:path>
              <a:path fill="lightenLess" w="34425" h="21600">
                <a:moveTo>
                  <a:pt x="0" y="0"/>
                </a:moveTo>
                <a:lnTo>
                  <a:pt x="34425" y="0"/>
                </a:lnTo>
                <a:lnTo>
                  <a:pt x="33025" y="1400"/>
                </a:lnTo>
                <a:lnTo>
                  <a:pt x="1400" y="1400"/>
                </a:lnTo>
                <a:close/>
              </a:path>
              <a:path fill="darken" w="34425" h="21600">
                <a:moveTo>
                  <a:pt x="34425" y="0"/>
                </a:moveTo>
                <a:lnTo>
                  <a:pt x="34425" y="21600"/>
                </a:lnTo>
                <a:lnTo>
                  <a:pt x="33025" y="20200"/>
                </a:lnTo>
                <a:lnTo>
                  <a:pt x="33025" y="1400"/>
                </a:lnTo>
                <a:close/>
              </a:path>
              <a:path fill="darkenLess" w="34425" h="21600">
                <a:moveTo>
                  <a:pt x="344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25" y="20200"/>
                </a:lnTo>
                <a:close/>
              </a:path>
              <a:path fill="lighten" w="344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25" h="21600">
                <a:moveTo>
                  <a:pt x="10206" y="3794"/>
                </a:moveTo>
                <a:lnTo>
                  <a:pt x="24219" y="10800"/>
                </a:lnTo>
                <a:lnTo>
                  <a:pt x="10206" y="17806"/>
                </a:lnTo>
                <a:close/>
              </a:path>
            </a:pathLst>
          </a:custGeom>
          <a:solidFill>
            <a:srgbClr val="cc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>
            <a:hlinkClick r:id="rId25" action="ppaction://hlinksldjump"/>
          </p:cNvPr>
          <p:cNvSpPr/>
          <p:nvPr/>
        </p:nvSpPr>
        <p:spPr>
          <a:xfrm>
            <a:off x="8383680" y="657684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087640" y="554040"/>
            <a:ext cx="6572160" cy="5651640"/>
            <a:chOff x="2087640" y="554040"/>
            <a:chExt cx="6572160" cy="5651640"/>
          </a:xfrm>
        </p:grpSpPr>
        <p:sp>
          <p:nvSpPr>
            <p:cNvPr id="364" name=""/>
            <p:cNvSpPr/>
            <p:nvPr/>
          </p:nvSpPr>
          <p:spPr>
            <a:xfrm>
              <a:off x="3084480" y="557280"/>
              <a:ext cx="4592520" cy="2828880"/>
            </a:xfrm>
            <a:custGeom>
              <a:avLst/>
              <a:gdLst/>
              <a:ahLst/>
              <a:rect l="l" t="t" r="r" b="b"/>
              <a:pathLst>
                <a:path w="11573" h="5346">
                  <a:moveTo>
                    <a:pt x="0" y="5346"/>
                  </a:moveTo>
                  <a:lnTo>
                    <a:pt x="576" y="5335"/>
                  </a:lnTo>
                  <a:lnTo>
                    <a:pt x="5786" y="537"/>
                  </a:lnTo>
                  <a:lnTo>
                    <a:pt x="10974" y="5324"/>
                  </a:lnTo>
                  <a:lnTo>
                    <a:pt x="11573" y="5335"/>
                  </a:lnTo>
                  <a:lnTo>
                    <a:pt x="5795" y="0"/>
                  </a:lnTo>
                  <a:lnTo>
                    <a:pt x="0" y="53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313080" y="838080"/>
              <a:ext cx="4130640" cy="5081760"/>
            </a:xfrm>
            <a:custGeom>
              <a:avLst/>
              <a:gdLst/>
              <a:ahLst/>
              <a:rect l="l" t="t" r="r" b="b"/>
              <a:pathLst>
                <a:path w="10407" h="9601">
                  <a:moveTo>
                    <a:pt x="0" y="4813"/>
                  </a:moveTo>
                  <a:lnTo>
                    <a:pt x="5219" y="0"/>
                  </a:lnTo>
                  <a:lnTo>
                    <a:pt x="10407" y="4789"/>
                  </a:lnTo>
                  <a:lnTo>
                    <a:pt x="5190" y="9601"/>
                  </a:lnTo>
                  <a:lnTo>
                    <a:pt x="0" y="481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50000">
                  <a:srgbClr val="ffff99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092320" y="2333520"/>
              <a:ext cx="6567480" cy="1136880"/>
            </a:xfrm>
            <a:custGeom>
              <a:avLst/>
              <a:gdLst/>
              <a:ahLst/>
              <a:rect l="l" t="t" r="r" b="b"/>
              <a:pathLst>
                <a:path w="16549" h="2150">
                  <a:moveTo>
                    <a:pt x="14583" y="7"/>
                  </a:moveTo>
                  <a:lnTo>
                    <a:pt x="14684" y="14"/>
                  </a:lnTo>
                  <a:lnTo>
                    <a:pt x="14801" y="30"/>
                  </a:lnTo>
                  <a:lnTo>
                    <a:pt x="14925" y="53"/>
                  </a:lnTo>
                  <a:lnTo>
                    <a:pt x="15043" y="85"/>
                  </a:lnTo>
                  <a:lnTo>
                    <a:pt x="15159" y="121"/>
                  </a:lnTo>
                  <a:lnTo>
                    <a:pt x="15270" y="163"/>
                  </a:lnTo>
                  <a:lnTo>
                    <a:pt x="15381" y="209"/>
                  </a:lnTo>
                  <a:lnTo>
                    <a:pt x="15490" y="260"/>
                  </a:lnTo>
                  <a:lnTo>
                    <a:pt x="15588" y="323"/>
                  </a:lnTo>
                  <a:lnTo>
                    <a:pt x="15692" y="387"/>
                  </a:lnTo>
                  <a:lnTo>
                    <a:pt x="15787" y="456"/>
                  </a:lnTo>
                  <a:lnTo>
                    <a:pt x="15876" y="527"/>
                  </a:lnTo>
                  <a:lnTo>
                    <a:pt x="15961" y="610"/>
                  </a:lnTo>
                  <a:lnTo>
                    <a:pt x="16050" y="692"/>
                  </a:lnTo>
                  <a:lnTo>
                    <a:pt x="16124" y="782"/>
                  </a:lnTo>
                  <a:lnTo>
                    <a:pt x="16195" y="876"/>
                  </a:lnTo>
                  <a:lnTo>
                    <a:pt x="16256" y="967"/>
                  </a:lnTo>
                  <a:lnTo>
                    <a:pt x="16316" y="1065"/>
                  </a:lnTo>
                  <a:lnTo>
                    <a:pt x="16371" y="1167"/>
                  </a:lnTo>
                  <a:lnTo>
                    <a:pt x="16418" y="1273"/>
                  </a:lnTo>
                  <a:lnTo>
                    <a:pt x="16456" y="1378"/>
                  </a:lnTo>
                  <a:lnTo>
                    <a:pt x="16487" y="1487"/>
                  </a:lnTo>
                  <a:lnTo>
                    <a:pt x="16515" y="1589"/>
                  </a:lnTo>
                  <a:lnTo>
                    <a:pt x="16529" y="1708"/>
                  </a:lnTo>
                  <a:lnTo>
                    <a:pt x="16545" y="1817"/>
                  </a:lnTo>
                  <a:lnTo>
                    <a:pt x="16549" y="1928"/>
                  </a:lnTo>
                  <a:lnTo>
                    <a:pt x="16549" y="1944"/>
                  </a:lnTo>
                  <a:lnTo>
                    <a:pt x="16545" y="1911"/>
                  </a:lnTo>
                  <a:lnTo>
                    <a:pt x="16528" y="1876"/>
                  </a:lnTo>
                  <a:lnTo>
                    <a:pt x="16509" y="1852"/>
                  </a:lnTo>
                  <a:lnTo>
                    <a:pt x="16483" y="1823"/>
                  </a:lnTo>
                  <a:lnTo>
                    <a:pt x="16452" y="1802"/>
                  </a:lnTo>
                  <a:lnTo>
                    <a:pt x="16422" y="1789"/>
                  </a:lnTo>
                  <a:lnTo>
                    <a:pt x="16381" y="1779"/>
                  </a:lnTo>
                  <a:lnTo>
                    <a:pt x="16340" y="1775"/>
                  </a:lnTo>
                  <a:lnTo>
                    <a:pt x="16303" y="1779"/>
                  </a:lnTo>
                  <a:lnTo>
                    <a:pt x="16269" y="1789"/>
                  </a:lnTo>
                  <a:lnTo>
                    <a:pt x="16238" y="1802"/>
                  </a:lnTo>
                  <a:lnTo>
                    <a:pt x="16203" y="1823"/>
                  </a:lnTo>
                  <a:lnTo>
                    <a:pt x="16178" y="1852"/>
                  </a:lnTo>
                  <a:lnTo>
                    <a:pt x="16158" y="1876"/>
                  </a:lnTo>
                  <a:lnTo>
                    <a:pt x="16146" y="1911"/>
                  </a:lnTo>
                  <a:lnTo>
                    <a:pt x="16137" y="1928"/>
                  </a:lnTo>
                  <a:lnTo>
                    <a:pt x="16137" y="1911"/>
                  </a:lnTo>
                  <a:lnTo>
                    <a:pt x="16132" y="1806"/>
                  </a:lnTo>
                  <a:lnTo>
                    <a:pt x="16118" y="1712"/>
                  </a:lnTo>
                  <a:lnTo>
                    <a:pt x="16093" y="1610"/>
                  </a:lnTo>
                  <a:lnTo>
                    <a:pt x="16069" y="1512"/>
                  </a:lnTo>
                  <a:lnTo>
                    <a:pt x="16032" y="1418"/>
                  </a:lnTo>
                  <a:lnTo>
                    <a:pt x="15994" y="1324"/>
                  </a:lnTo>
                  <a:lnTo>
                    <a:pt x="15945" y="1234"/>
                  </a:lnTo>
                  <a:lnTo>
                    <a:pt x="15888" y="1145"/>
                  </a:lnTo>
                  <a:lnTo>
                    <a:pt x="15825" y="1057"/>
                  </a:lnTo>
                  <a:lnTo>
                    <a:pt x="15761" y="979"/>
                  </a:lnTo>
                  <a:lnTo>
                    <a:pt x="15692" y="903"/>
                  </a:lnTo>
                  <a:lnTo>
                    <a:pt x="15617" y="831"/>
                  </a:lnTo>
                  <a:lnTo>
                    <a:pt x="15532" y="756"/>
                  </a:lnTo>
                  <a:lnTo>
                    <a:pt x="15445" y="700"/>
                  </a:lnTo>
                  <a:lnTo>
                    <a:pt x="15354" y="637"/>
                  </a:lnTo>
                  <a:lnTo>
                    <a:pt x="15261" y="583"/>
                  </a:lnTo>
                  <a:lnTo>
                    <a:pt x="15164" y="542"/>
                  </a:lnTo>
                  <a:lnTo>
                    <a:pt x="15070" y="497"/>
                  </a:lnTo>
                  <a:lnTo>
                    <a:pt x="14961" y="460"/>
                  </a:lnTo>
                  <a:lnTo>
                    <a:pt x="14861" y="431"/>
                  </a:lnTo>
                  <a:lnTo>
                    <a:pt x="14750" y="410"/>
                  </a:lnTo>
                  <a:lnTo>
                    <a:pt x="14646" y="391"/>
                  </a:lnTo>
                  <a:lnTo>
                    <a:pt x="14548" y="378"/>
                  </a:lnTo>
                  <a:lnTo>
                    <a:pt x="1996" y="378"/>
                  </a:lnTo>
                  <a:lnTo>
                    <a:pt x="1885" y="387"/>
                  </a:lnTo>
                  <a:lnTo>
                    <a:pt x="1785" y="401"/>
                  </a:lnTo>
                  <a:lnTo>
                    <a:pt x="1671" y="429"/>
                  </a:lnTo>
                  <a:lnTo>
                    <a:pt x="1571" y="460"/>
                  </a:lnTo>
                  <a:lnTo>
                    <a:pt x="1464" y="497"/>
                  </a:lnTo>
                  <a:lnTo>
                    <a:pt x="1367" y="535"/>
                  </a:lnTo>
                  <a:lnTo>
                    <a:pt x="1272" y="583"/>
                  </a:lnTo>
                  <a:lnTo>
                    <a:pt x="1183" y="637"/>
                  </a:lnTo>
                  <a:lnTo>
                    <a:pt x="1086" y="700"/>
                  </a:lnTo>
                  <a:lnTo>
                    <a:pt x="1001" y="756"/>
                  </a:lnTo>
                  <a:lnTo>
                    <a:pt x="923" y="831"/>
                  </a:lnTo>
                  <a:lnTo>
                    <a:pt x="850" y="903"/>
                  </a:lnTo>
                  <a:lnTo>
                    <a:pt x="779" y="979"/>
                  </a:lnTo>
                  <a:lnTo>
                    <a:pt x="708" y="1060"/>
                  </a:lnTo>
                  <a:lnTo>
                    <a:pt x="655" y="1145"/>
                  </a:lnTo>
                  <a:lnTo>
                    <a:pt x="603" y="1235"/>
                  </a:lnTo>
                  <a:lnTo>
                    <a:pt x="555" y="1324"/>
                  </a:lnTo>
                  <a:lnTo>
                    <a:pt x="517" y="1422"/>
                  </a:lnTo>
                  <a:lnTo>
                    <a:pt x="474" y="1512"/>
                  </a:lnTo>
                  <a:lnTo>
                    <a:pt x="450" y="1610"/>
                  </a:lnTo>
                  <a:lnTo>
                    <a:pt x="429" y="1712"/>
                  </a:lnTo>
                  <a:lnTo>
                    <a:pt x="415" y="1811"/>
                  </a:lnTo>
                  <a:lnTo>
                    <a:pt x="407" y="1911"/>
                  </a:lnTo>
                  <a:lnTo>
                    <a:pt x="407" y="1953"/>
                  </a:lnTo>
                  <a:lnTo>
                    <a:pt x="407" y="1967"/>
                  </a:lnTo>
                  <a:lnTo>
                    <a:pt x="402" y="1993"/>
                  </a:lnTo>
                  <a:lnTo>
                    <a:pt x="397" y="2025"/>
                  </a:lnTo>
                  <a:lnTo>
                    <a:pt x="381" y="2053"/>
                  </a:lnTo>
                  <a:lnTo>
                    <a:pt x="359" y="2087"/>
                  </a:lnTo>
                  <a:lnTo>
                    <a:pt x="333" y="2111"/>
                  </a:lnTo>
                  <a:lnTo>
                    <a:pt x="299" y="2131"/>
                  </a:lnTo>
                  <a:lnTo>
                    <a:pt x="265" y="2140"/>
                  </a:lnTo>
                  <a:lnTo>
                    <a:pt x="233" y="2150"/>
                  </a:lnTo>
                  <a:lnTo>
                    <a:pt x="192" y="2150"/>
                  </a:lnTo>
                  <a:lnTo>
                    <a:pt x="149" y="2146"/>
                  </a:lnTo>
                  <a:lnTo>
                    <a:pt x="119" y="2131"/>
                  </a:lnTo>
                  <a:lnTo>
                    <a:pt x="87" y="2117"/>
                  </a:lnTo>
                  <a:lnTo>
                    <a:pt x="56" y="2090"/>
                  </a:lnTo>
                  <a:lnTo>
                    <a:pt x="30" y="2067"/>
                  </a:lnTo>
                  <a:lnTo>
                    <a:pt x="13" y="2037"/>
                  </a:lnTo>
                  <a:lnTo>
                    <a:pt x="4" y="2002"/>
                  </a:lnTo>
                  <a:lnTo>
                    <a:pt x="0" y="1967"/>
                  </a:lnTo>
                  <a:lnTo>
                    <a:pt x="0" y="1944"/>
                  </a:lnTo>
                  <a:lnTo>
                    <a:pt x="4" y="1834"/>
                  </a:lnTo>
                  <a:lnTo>
                    <a:pt x="13" y="1728"/>
                  </a:lnTo>
                  <a:lnTo>
                    <a:pt x="30" y="1618"/>
                  </a:lnTo>
                  <a:lnTo>
                    <a:pt x="56" y="1503"/>
                  </a:lnTo>
                  <a:lnTo>
                    <a:pt x="87" y="1398"/>
                  </a:lnTo>
                  <a:lnTo>
                    <a:pt x="127" y="1289"/>
                  </a:lnTo>
                  <a:lnTo>
                    <a:pt x="171" y="1185"/>
                  </a:lnTo>
                  <a:lnTo>
                    <a:pt x="228" y="1088"/>
                  </a:lnTo>
                  <a:lnTo>
                    <a:pt x="279" y="982"/>
                  </a:lnTo>
                  <a:lnTo>
                    <a:pt x="346" y="887"/>
                  </a:lnTo>
                  <a:lnTo>
                    <a:pt x="415" y="794"/>
                  </a:lnTo>
                  <a:lnTo>
                    <a:pt x="486" y="708"/>
                  </a:lnTo>
                  <a:lnTo>
                    <a:pt x="568" y="623"/>
                  </a:lnTo>
                  <a:lnTo>
                    <a:pt x="655" y="544"/>
                  </a:lnTo>
                  <a:lnTo>
                    <a:pt x="744" y="464"/>
                  </a:lnTo>
                  <a:lnTo>
                    <a:pt x="845" y="396"/>
                  </a:lnTo>
                  <a:lnTo>
                    <a:pt x="943" y="329"/>
                  </a:lnTo>
                  <a:lnTo>
                    <a:pt x="1041" y="272"/>
                  </a:lnTo>
                  <a:lnTo>
                    <a:pt x="1149" y="209"/>
                  </a:lnTo>
                  <a:lnTo>
                    <a:pt x="1260" y="166"/>
                  </a:lnTo>
                  <a:lnTo>
                    <a:pt x="1367" y="125"/>
                  </a:lnTo>
                  <a:lnTo>
                    <a:pt x="1491" y="85"/>
                  </a:lnTo>
                  <a:lnTo>
                    <a:pt x="1606" y="53"/>
                  </a:lnTo>
                  <a:lnTo>
                    <a:pt x="1725" y="30"/>
                  </a:lnTo>
                  <a:lnTo>
                    <a:pt x="1843" y="9"/>
                  </a:lnTo>
                  <a:lnTo>
                    <a:pt x="1964" y="0"/>
                  </a:lnTo>
                  <a:lnTo>
                    <a:pt x="14583" y="7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246400" y="2533680"/>
              <a:ext cx="6238800" cy="1679400"/>
            </a:xfrm>
            <a:custGeom>
              <a:avLst/>
              <a:gdLst/>
              <a:ahLst/>
              <a:rect l="l" t="t" r="r" b="b"/>
              <a:pathLst>
                <a:path w="15721" h="3174">
                  <a:moveTo>
                    <a:pt x="14131" y="0"/>
                  </a:moveTo>
                  <a:lnTo>
                    <a:pt x="14242" y="12"/>
                  </a:lnTo>
                  <a:lnTo>
                    <a:pt x="14348" y="27"/>
                  </a:lnTo>
                  <a:lnTo>
                    <a:pt x="14457" y="52"/>
                  </a:lnTo>
                  <a:lnTo>
                    <a:pt x="14559" y="83"/>
                  </a:lnTo>
                  <a:lnTo>
                    <a:pt x="14660" y="122"/>
                  </a:lnTo>
                  <a:lnTo>
                    <a:pt x="14757" y="160"/>
                  </a:lnTo>
                  <a:lnTo>
                    <a:pt x="14855" y="207"/>
                  </a:lnTo>
                  <a:lnTo>
                    <a:pt x="14948" y="258"/>
                  </a:lnTo>
                  <a:lnTo>
                    <a:pt x="15043" y="325"/>
                  </a:lnTo>
                  <a:lnTo>
                    <a:pt x="15125" y="383"/>
                  </a:lnTo>
                  <a:lnTo>
                    <a:pt x="15205" y="450"/>
                  </a:lnTo>
                  <a:lnTo>
                    <a:pt x="15277" y="526"/>
                  </a:lnTo>
                  <a:lnTo>
                    <a:pt x="15352" y="603"/>
                  </a:lnTo>
                  <a:lnTo>
                    <a:pt x="15419" y="681"/>
                  </a:lnTo>
                  <a:lnTo>
                    <a:pt x="15474" y="770"/>
                  </a:lnTo>
                  <a:lnTo>
                    <a:pt x="15530" y="858"/>
                  </a:lnTo>
                  <a:lnTo>
                    <a:pt x="15579" y="949"/>
                  </a:lnTo>
                  <a:lnTo>
                    <a:pt x="15618" y="1043"/>
                  </a:lnTo>
                  <a:lnTo>
                    <a:pt x="15652" y="1138"/>
                  </a:lnTo>
                  <a:lnTo>
                    <a:pt x="15682" y="1235"/>
                  </a:lnTo>
                  <a:lnTo>
                    <a:pt x="15703" y="1337"/>
                  </a:lnTo>
                  <a:lnTo>
                    <a:pt x="15716" y="1435"/>
                  </a:lnTo>
                  <a:lnTo>
                    <a:pt x="15721" y="1537"/>
                  </a:lnTo>
                  <a:lnTo>
                    <a:pt x="15721" y="1636"/>
                  </a:lnTo>
                  <a:lnTo>
                    <a:pt x="15713" y="1738"/>
                  </a:lnTo>
                  <a:lnTo>
                    <a:pt x="15703" y="1835"/>
                  </a:lnTo>
                  <a:lnTo>
                    <a:pt x="15682" y="1939"/>
                  </a:lnTo>
                  <a:lnTo>
                    <a:pt x="15652" y="2035"/>
                  </a:lnTo>
                  <a:lnTo>
                    <a:pt x="15618" y="2128"/>
                  </a:lnTo>
                  <a:lnTo>
                    <a:pt x="15579" y="2221"/>
                  </a:lnTo>
                  <a:lnTo>
                    <a:pt x="15530" y="2317"/>
                  </a:lnTo>
                  <a:lnTo>
                    <a:pt x="15474" y="2406"/>
                  </a:lnTo>
                  <a:lnTo>
                    <a:pt x="15419" y="2485"/>
                  </a:lnTo>
                  <a:lnTo>
                    <a:pt x="15352" y="2567"/>
                  </a:lnTo>
                  <a:lnTo>
                    <a:pt x="15277" y="2642"/>
                  </a:lnTo>
                  <a:lnTo>
                    <a:pt x="15205" y="2720"/>
                  </a:lnTo>
                  <a:lnTo>
                    <a:pt x="15125" y="2791"/>
                  </a:lnTo>
                  <a:lnTo>
                    <a:pt x="15043" y="2853"/>
                  </a:lnTo>
                  <a:lnTo>
                    <a:pt x="14948" y="2909"/>
                  </a:lnTo>
                  <a:lnTo>
                    <a:pt x="14855" y="2963"/>
                  </a:lnTo>
                  <a:lnTo>
                    <a:pt x="14757" y="3011"/>
                  </a:lnTo>
                  <a:lnTo>
                    <a:pt x="14660" y="3054"/>
                  </a:lnTo>
                  <a:lnTo>
                    <a:pt x="14559" y="3091"/>
                  </a:lnTo>
                  <a:lnTo>
                    <a:pt x="14453" y="3123"/>
                  </a:lnTo>
                  <a:lnTo>
                    <a:pt x="14348" y="3141"/>
                  </a:lnTo>
                  <a:lnTo>
                    <a:pt x="14242" y="3163"/>
                  </a:lnTo>
                  <a:lnTo>
                    <a:pt x="14131" y="3172"/>
                  </a:lnTo>
                  <a:lnTo>
                    <a:pt x="14019" y="3174"/>
                  </a:lnTo>
                  <a:lnTo>
                    <a:pt x="1698" y="3174"/>
                  </a:lnTo>
                  <a:lnTo>
                    <a:pt x="1589" y="3172"/>
                  </a:lnTo>
                  <a:lnTo>
                    <a:pt x="1478" y="3163"/>
                  </a:lnTo>
                  <a:lnTo>
                    <a:pt x="1372" y="3141"/>
                  </a:lnTo>
                  <a:lnTo>
                    <a:pt x="1265" y="3123"/>
                  </a:lnTo>
                  <a:lnTo>
                    <a:pt x="1158" y="3091"/>
                  </a:lnTo>
                  <a:lnTo>
                    <a:pt x="1060" y="3054"/>
                  </a:lnTo>
                  <a:lnTo>
                    <a:pt x="956" y="3011"/>
                  </a:lnTo>
                  <a:lnTo>
                    <a:pt x="862" y="2963"/>
                  </a:lnTo>
                  <a:lnTo>
                    <a:pt x="769" y="2909"/>
                  </a:lnTo>
                  <a:lnTo>
                    <a:pt x="679" y="2853"/>
                  </a:lnTo>
                  <a:lnTo>
                    <a:pt x="588" y="2791"/>
                  </a:lnTo>
                  <a:lnTo>
                    <a:pt x="512" y="2720"/>
                  </a:lnTo>
                  <a:lnTo>
                    <a:pt x="439" y="2642"/>
                  </a:lnTo>
                  <a:lnTo>
                    <a:pt x="368" y="2567"/>
                  </a:lnTo>
                  <a:lnTo>
                    <a:pt x="301" y="2485"/>
                  </a:lnTo>
                  <a:lnTo>
                    <a:pt x="244" y="2406"/>
                  </a:lnTo>
                  <a:lnTo>
                    <a:pt x="188" y="2317"/>
                  </a:lnTo>
                  <a:lnTo>
                    <a:pt x="138" y="2221"/>
                  </a:lnTo>
                  <a:lnTo>
                    <a:pt x="102" y="2128"/>
                  </a:lnTo>
                  <a:lnTo>
                    <a:pt x="71" y="2035"/>
                  </a:lnTo>
                  <a:lnTo>
                    <a:pt x="39" y="1939"/>
                  </a:lnTo>
                  <a:lnTo>
                    <a:pt x="17" y="1835"/>
                  </a:lnTo>
                  <a:lnTo>
                    <a:pt x="5" y="1738"/>
                  </a:lnTo>
                  <a:lnTo>
                    <a:pt x="0" y="1636"/>
                  </a:lnTo>
                  <a:lnTo>
                    <a:pt x="0" y="1537"/>
                  </a:lnTo>
                  <a:lnTo>
                    <a:pt x="0" y="1435"/>
                  </a:lnTo>
                  <a:lnTo>
                    <a:pt x="17" y="1337"/>
                  </a:lnTo>
                  <a:lnTo>
                    <a:pt x="39" y="1235"/>
                  </a:lnTo>
                  <a:lnTo>
                    <a:pt x="71" y="1138"/>
                  </a:lnTo>
                  <a:lnTo>
                    <a:pt x="102" y="1043"/>
                  </a:lnTo>
                  <a:lnTo>
                    <a:pt x="138" y="949"/>
                  </a:lnTo>
                  <a:lnTo>
                    <a:pt x="188" y="858"/>
                  </a:lnTo>
                  <a:lnTo>
                    <a:pt x="244" y="770"/>
                  </a:lnTo>
                  <a:lnTo>
                    <a:pt x="301" y="681"/>
                  </a:lnTo>
                  <a:lnTo>
                    <a:pt x="368" y="603"/>
                  </a:lnTo>
                  <a:lnTo>
                    <a:pt x="439" y="526"/>
                  </a:lnTo>
                  <a:lnTo>
                    <a:pt x="512" y="450"/>
                  </a:lnTo>
                  <a:lnTo>
                    <a:pt x="588" y="383"/>
                  </a:lnTo>
                  <a:lnTo>
                    <a:pt x="679" y="325"/>
                  </a:lnTo>
                  <a:lnTo>
                    <a:pt x="769" y="258"/>
                  </a:lnTo>
                  <a:lnTo>
                    <a:pt x="862" y="207"/>
                  </a:lnTo>
                  <a:lnTo>
                    <a:pt x="956" y="160"/>
                  </a:lnTo>
                  <a:lnTo>
                    <a:pt x="1060" y="122"/>
                  </a:lnTo>
                  <a:lnTo>
                    <a:pt x="1158" y="83"/>
                  </a:lnTo>
                  <a:lnTo>
                    <a:pt x="1258" y="52"/>
                  </a:lnTo>
                  <a:lnTo>
                    <a:pt x="1372" y="27"/>
                  </a:lnTo>
                  <a:lnTo>
                    <a:pt x="1478" y="12"/>
                  </a:lnTo>
                  <a:lnTo>
                    <a:pt x="1589" y="0"/>
                  </a:lnTo>
                  <a:lnTo>
                    <a:pt x="14131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50000">
                  <a:srgbClr val="ffff99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92320" y="2333520"/>
              <a:ext cx="6567480" cy="1136880"/>
            </a:xfrm>
            <a:custGeom>
              <a:avLst/>
              <a:gdLst/>
              <a:ahLst/>
              <a:rect l="l" t="t" r="r" b="b"/>
              <a:pathLst>
                <a:path w="16549" h="2150">
                  <a:moveTo>
                    <a:pt x="14583" y="7"/>
                  </a:moveTo>
                  <a:lnTo>
                    <a:pt x="14684" y="14"/>
                  </a:lnTo>
                  <a:lnTo>
                    <a:pt x="14801" y="30"/>
                  </a:lnTo>
                  <a:lnTo>
                    <a:pt x="14925" y="53"/>
                  </a:lnTo>
                  <a:lnTo>
                    <a:pt x="15043" y="85"/>
                  </a:lnTo>
                  <a:lnTo>
                    <a:pt x="15159" y="121"/>
                  </a:lnTo>
                  <a:lnTo>
                    <a:pt x="15270" y="163"/>
                  </a:lnTo>
                  <a:lnTo>
                    <a:pt x="15381" y="209"/>
                  </a:lnTo>
                  <a:lnTo>
                    <a:pt x="15490" y="260"/>
                  </a:lnTo>
                  <a:lnTo>
                    <a:pt x="15588" y="323"/>
                  </a:lnTo>
                  <a:lnTo>
                    <a:pt x="15692" y="387"/>
                  </a:lnTo>
                  <a:lnTo>
                    <a:pt x="15787" y="456"/>
                  </a:lnTo>
                  <a:lnTo>
                    <a:pt x="15876" y="527"/>
                  </a:lnTo>
                  <a:lnTo>
                    <a:pt x="15961" y="610"/>
                  </a:lnTo>
                  <a:lnTo>
                    <a:pt x="16050" y="692"/>
                  </a:lnTo>
                  <a:lnTo>
                    <a:pt x="16124" y="782"/>
                  </a:lnTo>
                  <a:lnTo>
                    <a:pt x="16195" y="876"/>
                  </a:lnTo>
                  <a:lnTo>
                    <a:pt x="16256" y="967"/>
                  </a:lnTo>
                  <a:lnTo>
                    <a:pt x="16316" y="1065"/>
                  </a:lnTo>
                  <a:lnTo>
                    <a:pt x="16371" y="1167"/>
                  </a:lnTo>
                  <a:lnTo>
                    <a:pt x="16418" y="1273"/>
                  </a:lnTo>
                  <a:lnTo>
                    <a:pt x="16456" y="1378"/>
                  </a:lnTo>
                  <a:lnTo>
                    <a:pt x="16487" y="1487"/>
                  </a:lnTo>
                  <a:lnTo>
                    <a:pt x="16515" y="1589"/>
                  </a:lnTo>
                  <a:lnTo>
                    <a:pt x="16529" y="1708"/>
                  </a:lnTo>
                  <a:lnTo>
                    <a:pt x="16545" y="1817"/>
                  </a:lnTo>
                  <a:lnTo>
                    <a:pt x="16549" y="1928"/>
                  </a:lnTo>
                  <a:lnTo>
                    <a:pt x="16549" y="1944"/>
                  </a:lnTo>
                  <a:lnTo>
                    <a:pt x="16545" y="1911"/>
                  </a:lnTo>
                  <a:lnTo>
                    <a:pt x="16528" y="1876"/>
                  </a:lnTo>
                  <a:lnTo>
                    <a:pt x="16509" y="1852"/>
                  </a:lnTo>
                  <a:lnTo>
                    <a:pt x="16483" y="1823"/>
                  </a:lnTo>
                  <a:lnTo>
                    <a:pt x="16452" y="1802"/>
                  </a:lnTo>
                  <a:lnTo>
                    <a:pt x="16422" y="1789"/>
                  </a:lnTo>
                  <a:lnTo>
                    <a:pt x="16381" y="1779"/>
                  </a:lnTo>
                  <a:lnTo>
                    <a:pt x="16340" y="1775"/>
                  </a:lnTo>
                  <a:lnTo>
                    <a:pt x="16303" y="1779"/>
                  </a:lnTo>
                  <a:lnTo>
                    <a:pt x="16269" y="1789"/>
                  </a:lnTo>
                  <a:lnTo>
                    <a:pt x="16238" y="1802"/>
                  </a:lnTo>
                  <a:lnTo>
                    <a:pt x="16203" y="1823"/>
                  </a:lnTo>
                  <a:lnTo>
                    <a:pt x="16178" y="1852"/>
                  </a:lnTo>
                  <a:lnTo>
                    <a:pt x="16158" y="1876"/>
                  </a:lnTo>
                  <a:lnTo>
                    <a:pt x="16146" y="1911"/>
                  </a:lnTo>
                  <a:lnTo>
                    <a:pt x="16137" y="1928"/>
                  </a:lnTo>
                  <a:lnTo>
                    <a:pt x="16137" y="1911"/>
                  </a:lnTo>
                  <a:lnTo>
                    <a:pt x="16132" y="1806"/>
                  </a:lnTo>
                  <a:lnTo>
                    <a:pt x="16118" y="1712"/>
                  </a:lnTo>
                  <a:lnTo>
                    <a:pt x="16093" y="1610"/>
                  </a:lnTo>
                  <a:lnTo>
                    <a:pt x="16069" y="1512"/>
                  </a:lnTo>
                  <a:lnTo>
                    <a:pt x="16032" y="1418"/>
                  </a:lnTo>
                  <a:lnTo>
                    <a:pt x="15994" y="1324"/>
                  </a:lnTo>
                  <a:lnTo>
                    <a:pt x="15945" y="1234"/>
                  </a:lnTo>
                  <a:lnTo>
                    <a:pt x="15888" y="1145"/>
                  </a:lnTo>
                  <a:lnTo>
                    <a:pt x="15825" y="1057"/>
                  </a:lnTo>
                  <a:lnTo>
                    <a:pt x="15761" y="979"/>
                  </a:lnTo>
                  <a:lnTo>
                    <a:pt x="15692" y="903"/>
                  </a:lnTo>
                  <a:lnTo>
                    <a:pt x="15617" y="831"/>
                  </a:lnTo>
                  <a:lnTo>
                    <a:pt x="15532" y="756"/>
                  </a:lnTo>
                  <a:lnTo>
                    <a:pt x="15445" y="700"/>
                  </a:lnTo>
                  <a:lnTo>
                    <a:pt x="15354" y="637"/>
                  </a:lnTo>
                  <a:lnTo>
                    <a:pt x="15261" y="583"/>
                  </a:lnTo>
                  <a:lnTo>
                    <a:pt x="15164" y="542"/>
                  </a:lnTo>
                  <a:lnTo>
                    <a:pt x="15070" y="497"/>
                  </a:lnTo>
                  <a:lnTo>
                    <a:pt x="14961" y="460"/>
                  </a:lnTo>
                  <a:lnTo>
                    <a:pt x="14861" y="431"/>
                  </a:lnTo>
                  <a:lnTo>
                    <a:pt x="14750" y="410"/>
                  </a:lnTo>
                  <a:lnTo>
                    <a:pt x="14646" y="391"/>
                  </a:lnTo>
                  <a:lnTo>
                    <a:pt x="14548" y="378"/>
                  </a:lnTo>
                  <a:lnTo>
                    <a:pt x="1996" y="378"/>
                  </a:lnTo>
                  <a:lnTo>
                    <a:pt x="1885" y="387"/>
                  </a:lnTo>
                  <a:lnTo>
                    <a:pt x="1785" y="401"/>
                  </a:lnTo>
                  <a:lnTo>
                    <a:pt x="1671" y="429"/>
                  </a:lnTo>
                  <a:lnTo>
                    <a:pt x="1571" y="460"/>
                  </a:lnTo>
                  <a:lnTo>
                    <a:pt x="1464" y="497"/>
                  </a:lnTo>
                  <a:lnTo>
                    <a:pt x="1367" y="535"/>
                  </a:lnTo>
                  <a:lnTo>
                    <a:pt x="1272" y="583"/>
                  </a:lnTo>
                  <a:lnTo>
                    <a:pt x="1183" y="637"/>
                  </a:lnTo>
                  <a:lnTo>
                    <a:pt x="1086" y="700"/>
                  </a:lnTo>
                  <a:lnTo>
                    <a:pt x="1001" y="756"/>
                  </a:lnTo>
                  <a:lnTo>
                    <a:pt x="923" y="831"/>
                  </a:lnTo>
                  <a:lnTo>
                    <a:pt x="850" y="903"/>
                  </a:lnTo>
                  <a:lnTo>
                    <a:pt x="779" y="979"/>
                  </a:lnTo>
                  <a:lnTo>
                    <a:pt x="708" y="1060"/>
                  </a:lnTo>
                  <a:lnTo>
                    <a:pt x="655" y="1145"/>
                  </a:lnTo>
                  <a:lnTo>
                    <a:pt x="603" y="1235"/>
                  </a:lnTo>
                  <a:lnTo>
                    <a:pt x="555" y="1324"/>
                  </a:lnTo>
                  <a:lnTo>
                    <a:pt x="517" y="1422"/>
                  </a:lnTo>
                  <a:lnTo>
                    <a:pt x="474" y="1512"/>
                  </a:lnTo>
                  <a:lnTo>
                    <a:pt x="450" y="1610"/>
                  </a:lnTo>
                  <a:lnTo>
                    <a:pt x="429" y="1712"/>
                  </a:lnTo>
                  <a:lnTo>
                    <a:pt x="415" y="1811"/>
                  </a:lnTo>
                  <a:lnTo>
                    <a:pt x="407" y="1911"/>
                  </a:lnTo>
                  <a:lnTo>
                    <a:pt x="407" y="1953"/>
                  </a:lnTo>
                  <a:lnTo>
                    <a:pt x="407" y="1967"/>
                  </a:lnTo>
                  <a:lnTo>
                    <a:pt x="402" y="1993"/>
                  </a:lnTo>
                  <a:lnTo>
                    <a:pt x="397" y="2025"/>
                  </a:lnTo>
                  <a:lnTo>
                    <a:pt x="381" y="2053"/>
                  </a:lnTo>
                  <a:lnTo>
                    <a:pt x="359" y="2087"/>
                  </a:lnTo>
                  <a:lnTo>
                    <a:pt x="333" y="2111"/>
                  </a:lnTo>
                  <a:lnTo>
                    <a:pt x="299" y="2131"/>
                  </a:lnTo>
                  <a:lnTo>
                    <a:pt x="265" y="2140"/>
                  </a:lnTo>
                  <a:lnTo>
                    <a:pt x="233" y="2150"/>
                  </a:lnTo>
                  <a:lnTo>
                    <a:pt x="192" y="2150"/>
                  </a:lnTo>
                  <a:lnTo>
                    <a:pt x="149" y="2146"/>
                  </a:lnTo>
                  <a:lnTo>
                    <a:pt x="119" y="2131"/>
                  </a:lnTo>
                  <a:lnTo>
                    <a:pt x="87" y="2117"/>
                  </a:lnTo>
                  <a:lnTo>
                    <a:pt x="56" y="2090"/>
                  </a:lnTo>
                  <a:lnTo>
                    <a:pt x="30" y="2067"/>
                  </a:lnTo>
                  <a:lnTo>
                    <a:pt x="13" y="2037"/>
                  </a:lnTo>
                  <a:lnTo>
                    <a:pt x="4" y="2002"/>
                  </a:lnTo>
                  <a:lnTo>
                    <a:pt x="0" y="1967"/>
                  </a:lnTo>
                  <a:lnTo>
                    <a:pt x="0" y="1944"/>
                  </a:lnTo>
                  <a:lnTo>
                    <a:pt x="4" y="1834"/>
                  </a:lnTo>
                  <a:lnTo>
                    <a:pt x="13" y="1728"/>
                  </a:lnTo>
                  <a:lnTo>
                    <a:pt x="30" y="1618"/>
                  </a:lnTo>
                  <a:lnTo>
                    <a:pt x="56" y="1503"/>
                  </a:lnTo>
                  <a:lnTo>
                    <a:pt x="87" y="1398"/>
                  </a:lnTo>
                  <a:lnTo>
                    <a:pt x="127" y="1289"/>
                  </a:lnTo>
                  <a:lnTo>
                    <a:pt x="171" y="1185"/>
                  </a:lnTo>
                  <a:lnTo>
                    <a:pt x="228" y="1088"/>
                  </a:lnTo>
                  <a:lnTo>
                    <a:pt x="279" y="982"/>
                  </a:lnTo>
                  <a:lnTo>
                    <a:pt x="346" y="887"/>
                  </a:lnTo>
                  <a:lnTo>
                    <a:pt x="415" y="794"/>
                  </a:lnTo>
                  <a:lnTo>
                    <a:pt x="486" y="708"/>
                  </a:lnTo>
                  <a:lnTo>
                    <a:pt x="568" y="623"/>
                  </a:lnTo>
                  <a:lnTo>
                    <a:pt x="655" y="544"/>
                  </a:lnTo>
                  <a:lnTo>
                    <a:pt x="744" y="464"/>
                  </a:lnTo>
                  <a:lnTo>
                    <a:pt x="845" y="396"/>
                  </a:lnTo>
                  <a:lnTo>
                    <a:pt x="943" y="329"/>
                  </a:lnTo>
                  <a:lnTo>
                    <a:pt x="1041" y="272"/>
                  </a:lnTo>
                  <a:lnTo>
                    <a:pt x="1149" y="209"/>
                  </a:lnTo>
                  <a:lnTo>
                    <a:pt x="1260" y="166"/>
                  </a:lnTo>
                  <a:lnTo>
                    <a:pt x="1367" y="125"/>
                  </a:lnTo>
                  <a:lnTo>
                    <a:pt x="1491" y="85"/>
                  </a:lnTo>
                  <a:lnTo>
                    <a:pt x="1606" y="53"/>
                  </a:lnTo>
                  <a:lnTo>
                    <a:pt x="1725" y="30"/>
                  </a:lnTo>
                  <a:lnTo>
                    <a:pt x="1843" y="9"/>
                  </a:lnTo>
                  <a:lnTo>
                    <a:pt x="1964" y="0"/>
                  </a:lnTo>
                  <a:lnTo>
                    <a:pt x="14583" y="7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87640" y="3271680"/>
              <a:ext cx="6570720" cy="1140120"/>
            </a:xfrm>
            <a:custGeom>
              <a:avLst/>
              <a:gdLst/>
              <a:ahLst/>
              <a:rect l="l" t="t" r="r" b="b"/>
              <a:pathLst>
                <a:path w="16554" h="2152">
                  <a:moveTo>
                    <a:pt x="1970" y="2144"/>
                  </a:moveTo>
                  <a:lnTo>
                    <a:pt x="1868" y="2140"/>
                  </a:lnTo>
                  <a:lnTo>
                    <a:pt x="1748" y="2119"/>
                  </a:lnTo>
                  <a:lnTo>
                    <a:pt x="1623" y="2097"/>
                  </a:lnTo>
                  <a:lnTo>
                    <a:pt x="1509" y="2063"/>
                  </a:lnTo>
                  <a:lnTo>
                    <a:pt x="1396" y="2031"/>
                  </a:lnTo>
                  <a:lnTo>
                    <a:pt x="1281" y="1988"/>
                  </a:lnTo>
                  <a:lnTo>
                    <a:pt x="1171" y="1941"/>
                  </a:lnTo>
                  <a:lnTo>
                    <a:pt x="1060" y="1886"/>
                  </a:lnTo>
                  <a:lnTo>
                    <a:pt x="958" y="1829"/>
                  </a:lnTo>
                  <a:lnTo>
                    <a:pt x="863" y="1764"/>
                  </a:lnTo>
                  <a:lnTo>
                    <a:pt x="766" y="1696"/>
                  </a:lnTo>
                  <a:lnTo>
                    <a:pt x="673" y="1618"/>
                  </a:lnTo>
                  <a:lnTo>
                    <a:pt x="581" y="1541"/>
                  </a:lnTo>
                  <a:lnTo>
                    <a:pt x="501" y="1457"/>
                  </a:lnTo>
                  <a:lnTo>
                    <a:pt x="429" y="1368"/>
                  </a:lnTo>
                  <a:lnTo>
                    <a:pt x="358" y="1274"/>
                  </a:lnTo>
                  <a:lnTo>
                    <a:pt x="295" y="1185"/>
                  </a:lnTo>
                  <a:lnTo>
                    <a:pt x="242" y="1085"/>
                  </a:lnTo>
                  <a:lnTo>
                    <a:pt x="184" y="984"/>
                  </a:lnTo>
                  <a:lnTo>
                    <a:pt x="136" y="882"/>
                  </a:lnTo>
                  <a:lnTo>
                    <a:pt x="96" y="772"/>
                  </a:lnTo>
                  <a:lnTo>
                    <a:pt x="61" y="659"/>
                  </a:lnTo>
                  <a:lnTo>
                    <a:pt x="39" y="556"/>
                  </a:lnTo>
                  <a:lnTo>
                    <a:pt x="17" y="443"/>
                  </a:lnTo>
                  <a:lnTo>
                    <a:pt x="9" y="336"/>
                  </a:lnTo>
                  <a:lnTo>
                    <a:pt x="0" y="222"/>
                  </a:lnTo>
                  <a:lnTo>
                    <a:pt x="0" y="203"/>
                  </a:lnTo>
                  <a:lnTo>
                    <a:pt x="9" y="237"/>
                  </a:lnTo>
                  <a:lnTo>
                    <a:pt x="22" y="270"/>
                  </a:lnTo>
                  <a:lnTo>
                    <a:pt x="43" y="298"/>
                  </a:lnTo>
                  <a:lnTo>
                    <a:pt x="70" y="321"/>
                  </a:lnTo>
                  <a:lnTo>
                    <a:pt x="102" y="345"/>
                  </a:lnTo>
                  <a:lnTo>
                    <a:pt x="131" y="359"/>
                  </a:lnTo>
                  <a:lnTo>
                    <a:pt x="163" y="371"/>
                  </a:lnTo>
                  <a:lnTo>
                    <a:pt x="206" y="375"/>
                  </a:lnTo>
                  <a:lnTo>
                    <a:pt x="247" y="371"/>
                  </a:lnTo>
                  <a:lnTo>
                    <a:pt x="286" y="359"/>
                  </a:lnTo>
                  <a:lnTo>
                    <a:pt x="321" y="345"/>
                  </a:lnTo>
                  <a:lnTo>
                    <a:pt x="346" y="321"/>
                  </a:lnTo>
                  <a:lnTo>
                    <a:pt x="371" y="298"/>
                  </a:lnTo>
                  <a:lnTo>
                    <a:pt x="394" y="270"/>
                  </a:lnTo>
                  <a:lnTo>
                    <a:pt x="406" y="237"/>
                  </a:lnTo>
                  <a:lnTo>
                    <a:pt x="411" y="222"/>
                  </a:lnTo>
                  <a:lnTo>
                    <a:pt x="411" y="237"/>
                  </a:lnTo>
                  <a:lnTo>
                    <a:pt x="420" y="342"/>
                  </a:lnTo>
                  <a:lnTo>
                    <a:pt x="438" y="435"/>
                  </a:lnTo>
                  <a:lnTo>
                    <a:pt x="453" y="540"/>
                  </a:lnTo>
                  <a:lnTo>
                    <a:pt x="483" y="636"/>
                  </a:lnTo>
                  <a:lnTo>
                    <a:pt x="521" y="735"/>
                  </a:lnTo>
                  <a:lnTo>
                    <a:pt x="564" y="826"/>
                  </a:lnTo>
                  <a:lnTo>
                    <a:pt x="612" y="918"/>
                  </a:lnTo>
                  <a:lnTo>
                    <a:pt x="664" y="1007"/>
                  </a:lnTo>
                  <a:lnTo>
                    <a:pt x="722" y="1089"/>
                  </a:lnTo>
                  <a:lnTo>
                    <a:pt x="788" y="1172"/>
                  </a:lnTo>
                  <a:lnTo>
                    <a:pt x="863" y="1247"/>
                  </a:lnTo>
                  <a:lnTo>
                    <a:pt x="936" y="1321"/>
                  </a:lnTo>
                  <a:lnTo>
                    <a:pt x="1021" y="1392"/>
                  </a:lnTo>
                  <a:lnTo>
                    <a:pt x="1103" y="1453"/>
                  </a:lnTo>
                  <a:lnTo>
                    <a:pt x="1193" y="1509"/>
                  </a:lnTo>
                  <a:lnTo>
                    <a:pt x="1287" y="1562"/>
                  </a:lnTo>
                  <a:lnTo>
                    <a:pt x="1380" y="1611"/>
                  </a:lnTo>
                  <a:lnTo>
                    <a:pt x="1486" y="1655"/>
                  </a:lnTo>
                  <a:lnTo>
                    <a:pt x="1588" y="1684"/>
                  </a:lnTo>
                  <a:lnTo>
                    <a:pt x="1692" y="1720"/>
                  </a:lnTo>
                  <a:lnTo>
                    <a:pt x="1803" y="1740"/>
                  </a:lnTo>
                  <a:lnTo>
                    <a:pt x="1907" y="1759"/>
                  </a:lnTo>
                  <a:lnTo>
                    <a:pt x="2000" y="1771"/>
                  </a:lnTo>
                  <a:lnTo>
                    <a:pt x="14553" y="1771"/>
                  </a:lnTo>
                  <a:lnTo>
                    <a:pt x="14663" y="1764"/>
                  </a:lnTo>
                  <a:lnTo>
                    <a:pt x="14774" y="1743"/>
                  </a:lnTo>
                  <a:lnTo>
                    <a:pt x="14881" y="1724"/>
                  </a:lnTo>
                  <a:lnTo>
                    <a:pt x="14983" y="1689"/>
                  </a:lnTo>
                  <a:lnTo>
                    <a:pt x="15084" y="1655"/>
                  </a:lnTo>
                  <a:lnTo>
                    <a:pt x="15182" y="1615"/>
                  </a:lnTo>
                  <a:lnTo>
                    <a:pt x="15279" y="1567"/>
                  </a:lnTo>
                  <a:lnTo>
                    <a:pt x="15372" y="1509"/>
                  </a:lnTo>
                  <a:lnTo>
                    <a:pt x="15463" y="1453"/>
                  </a:lnTo>
                  <a:lnTo>
                    <a:pt x="15547" y="1392"/>
                  </a:lnTo>
                  <a:lnTo>
                    <a:pt x="15628" y="1321"/>
                  </a:lnTo>
                  <a:lnTo>
                    <a:pt x="15702" y="1242"/>
                  </a:lnTo>
                  <a:lnTo>
                    <a:pt x="15774" y="1168"/>
                  </a:lnTo>
                  <a:lnTo>
                    <a:pt x="15841" y="1086"/>
                  </a:lnTo>
                  <a:lnTo>
                    <a:pt x="15897" y="1007"/>
                  </a:lnTo>
                  <a:lnTo>
                    <a:pt x="15954" y="918"/>
                  </a:lnTo>
                  <a:lnTo>
                    <a:pt x="16003" y="822"/>
                  </a:lnTo>
                  <a:lnTo>
                    <a:pt x="16041" y="728"/>
                  </a:lnTo>
                  <a:lnTo>
                    <a:pt x="16070" y="636"/>
                  </a:lnTo>
                  <a:lnTo>
                    <a:pt x="16101" y="540"/>
                  </a:lnTo>
                  <a:lnTo>
                    <a:pt x="16119" y="435"/>
                  </a:lnTo>
                  <a:lnTo>
                    <a:pt x="16140" y="339"/>
                  </a:lnTo>
                  <a:lnTo>
                    <a:pt x="16141" y="237"/>
                  </a:lnTo>
                  <a:lnTo>
                    <a:pt x="16141" y="198"/>
                  </a:lnTo>
                  <a:lnTo>
                    <a:pt x="16141" y="183"/>
                  </a:lnTo>
                  <a:lnTo>
                    <a:pt x="16146" y="157"/>
                  </a:lnTo>
                  <a:lnTo>
                    <a:pt x="16155" y="126"/>
                  </a:lnTo>
                  <a:lnTo>
                    <a:pt x="16174" y="93"/>
                  </a:lnTo>
                  <a:lnTo>
                    <a:pt x="16189" y="59"/>
                  </a:lnTo>
                  <a:lnTo>
                    <a:pt x="16221" y="42"/>
                  </a:lnTo>
                  <a:lnTo>
                    <a:pt x="16256" y="22"/>
                  </a:lnTo>
                  <a:lnTo>
                    <a:pt x="16287" y="7"/>
                  </a:lnTo>
                  <a:lnTo>
                    <a:pt x="16320" y="0"/>
                  </a:lnTo>
                  <a:lnTo>
                    <a:pt x="16362" y="0"/>
                  </a:lnTo>
                  <a:lnTo>
                    <a:pt x="16396" y="4"/>
                  </a:lnTo>
                  <a:lnTo>
                    <a:pt x="16435" y="16"/>
                  </a:lnTo>
                  <a:lnTo>
                    <a:pt x="16465" y="31"/>
                  </a:lnTo>
                  <a:lnTo>
                    <a:pt x="16492" y="57"/>
                  </a:lnTo>
                  <a:lnTo>
                    <a:pt x="16518" y="86"/>
                  </a:lnTo>
                  <a:lnTo>
                    <a:pt x="16537" y="113"/>
                  </a:lnTo>
                  <a:lnTo>
                    <a:pt x="16550" y="145"/>
                  </a:lnTo>
                  <a:lnTo>
                    <a:pt x="16554" y="183"/>
                  </a:lnTo>
                  <a:lnTo>
                    <a:pt x="16554" y="203"/>
                  </a:lnTo>
                  <a:lnTo>
                    <a:pt x="16550" y="312"/>
                  </a:lnTo>
                  <a:lnTo>
                    <a:pt x="16537" y="423"/>
                  </a:lnTo>
                  <a:lnTo>
                    <a:pt x="16518" y="536"/>
                  </a:lnTo>
                  <a:lnTo>
                    <a:pt x="16492" y="646"/>
                  </a:lnTo>
                  <a:lnTo>
                    <a:pt x="16465" y="752"/>
                  </a:lnTo>
                  <a:lnTo>
                    <a:pt x="16427" y="858"/>
                  </a:lnTo>
                  <a:lnTo>
                    <a:pt x="16383" y="965"/>
                  </a:lnTo>
                  <a:lnTo>
                    <a:pt x="16332" y="1061"/>
                  </a:lnTo>
                  <a:lnTo>
                    <a:pt x="16269" y="1163"/>
                  </a:lnTo>
                  <a:lnTo>
                    <a:pt x="16207" y="1263"/>
                  </a:lnTo>
                  <a:lnTo>
                    <a:pt x="16140" y="1351"/>
                  </a:lnTo>
                  <a:lnTo>
                    <a:pt x="16065" y="1442"/>
                  </a:lnTo>
                  <a:lnTo>
                    <a:pt x="15979" y="1527"/>
                  </a:lnTo>
                  <a:lnTo>
                    <a:pt x="15894" y="1606"/>
                  </a:lnTo>
                  <a:lnTo>
                    <a:pt x="15807" y="1684"/>
                  </a:lnTo>
                  <a:lnTo>
                    <a:pt x="15714" y="1756"/>
                  </a:lnTo>
                  <a:lnTo>
                    <a:pt x="15612" y="1815"/>
                  </a:lnTo>
                  <a:lnTo>
                    <a:pt x="15512" y="1885"/>
                  </a:lnTo>
                  <a:lnTo>
                    <a:pt x="15403" y="1936"/>
                  </a:lnTo>
                  <a:lnTo>
                    <a:pt x="15292" y="1987"/>
                  </a:lnTo>
                  <a:lnTo>
                    <a:pt x="15179" y="2022"/>
                  </a:lnTo>
                  <a:lnTo>
                    <a:pt x="15068" y="2063"/>
                  </a:lnTo>
                  <a:lnTo>
                    <a:pt x="14947" y="2097"/>
                  </a:lnTo>
                  <a:lnTo>
                    <a:pt x="14830" y="2119"/>
                  </a:lnTo>
                  <a:lnTo>
                    <a:pt x="14707" y="2141"/>
                  </a:lnTo>
                  <a:lnTo>
                    <a:pt x="14588" y="2152"/>
                  </a:lnTo>
                  <a:lnTo>
                    <a:pt x="1970" y="21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0360" y="4368960"/>
              <a:ext cx="3016080" cy="1836720"/>
            </a:xfrm>
            <a:custGeom>
              <a:avLst/>
              <a:gdLst/>
              <a:ahLst/>
              <a:rect l="l" t="t" r="r" b="b"/>
              <a:pathLst>
                <a:path w="7600" h="3471">
                  <a:moveTo>
                    <a:pt x="579" y="0"/>
                  </a:moveTo>
                  <a:lnTo>
                    <a:pt x="3792" y="2951"/>
                  </a:lnTo>
                  <a:lnTo>
                    <a:pt x="7020" y="0"/>
                  </a:lnTo>
                  <a:lnTo>
                    <a:pt x="7600" y="0"/>
                  </a:lnTo>
                  <a:lnTo>
                    <a:pt x="3792" y="3471"/>
                  </a:lnTo>
                  <a:lnTo>
                    <a:pt x="0" y="0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916440" y="554040"/>
              <a:ext cx="2927160" cy="1787400"/>
            </a:xfrm>
            <a:custGeom>
              <a:avLst/>
              <a:gdLst/>
              <a:ahLst/>
              <a:rect l="l" t="t" r="r" b="b"/>
              <a:pathLst>
                <a:path w="7374" h="3376">
                  <a:moveTo>
                    <a:pt x="7374" y="3376"/>
                  </a:moveTo>
                  <a:lnTo>
                    <a:pt x="3687" y="0"/>
                  </a:lnTo>
                  <a:lnTo>
                    <a:pt x="0" y="33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41800" y="830160"/>
              <a:ext cx="2476440" cy="1511280"/>
            </a:xfrm>
            <a:custGeom>
              <a:avLst/>
              <a:gdLst/>
              <a:ahLst/>
              <a:rect l="l" t="t" r="r" b="b"/>
              <a:pathLst>
                <a:path w="6239" h="2855">
                  <a:moveTo>
                    <a:pt x="0" y="2855"/>
                  </a:moveTo>
                  <a:lnTo>
                    <a:pt x="3119" y="0"/>
                  </a:lnTo>
                  <a:lnTo>
                    <a:pt x="6239" y="28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300400" y="2968560"/>
              <a:ext cx="61099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THE U.S. ECONOMY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rot="19800000">
            <a:off x="825480" y="1019880"/>
            <a:ext cx="52351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Brush Script MT"/>
              </a:rPr>
              <a:t>Coming up next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90480" y="797040"/>
            <a:ext cx="2257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Chapter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782440" y="6068880"/>
            <a:ext cx="5173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Private and Public Se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500"/>
                            </p:stCondLst>
                            <p:childTnLst>
                              <p:par>
                                <p:cTn id="5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5275440" y="1552680"/>
            <a:ext cx="3332160" cy="2411280"/>
            <a:chOff x="5275440" y="1552680"/>
            <a:chExt cx="3332160" cy="2411280"/>
          </a:xfrm>
        </p:grpSpPr>
        <p:sp>
          <p:nvSpPr>
            <p:cNvPr id="91" name=""/>
            <p:cNvSpPr/>
            <p:nvPr/>
          </p:nvSpPr>
          <p:spPr>
            <a:xfrm>
              <a:off x="5275440" y="2692440"/>
              <a:ext cx="3332160" cy="1271520"/>
            </a:xfrm>
            <a:custGeom>
              <a:avLst/>
              <a:gdLst/>
              <a:ahLst/>
              <a:rect l="l" t="t" r="r" b="b"/>
              <a:pathLst>
                <a:path w="2538" h="790">
                  <a:moveTo>
                    <a:pt x="0" y="789"/>
                  </a:moveTo>
                  <a:lnTo>
                    <a:pt x="2537" y="0"/>
                  </a:lnTo>
                  <a:lnTo>
                    <a:pt x="314" y="0"/>
                  </a:lnTo>
                  <a:lnTo>
                    <a:pt x="0" y="78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75440" y="1611360"/>
              <a:ext cx="414000" cy="2352600"/>
            </a:xfrm>
            <a:custGeom>
              <a:avLst/>
              <a:gdLst/>
              <a:ahLst/>
              <a:rect l="l" t="t" r="r" b="b"/>
              <a:pathLst>
                <a:path w="315" h="1462">
                  <a:moveTo>
                    <a:pt x="314" y="672"/>
                  </a:moveTo>
                  <a:lnTo>
                    <a:pt x="314" y="0"/>
                  </a:lnTo>
                  <a:lnTo>
                    <a:pt x="0" y="1461"/>
                  </a:lnTo>
                  <a:lnTo>
                    <a:pt x="314" y="672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688000" y="1616040"/>
              <a:ext cx="2919600" cy="1085760"/>
            </a:xfrm>
            <a:custGeom>
              <a:avLst/>
              <a:gdLst/>
              <a:ahLst/>
              <a:rect l="l" t="t" r="r" b="b"/>
              <a:pathLst>
                <a:path w="2224" h="675">
                  <a:moveTo>
                    <a:pt x="0" y="0"/>
                  </a:moveTo>
                  <a:lnTo>
                    <a:pt x="0" y="674"/>
                  </a:lnTo>
                  <a:lnTo>
                    <a:pt x="2223" y="674"/>
                  </a:lnTo>
                  <a:lnTo>
                    <a:pt x="2223" y="0"/>
                  </a:lnTo>
                  <a:lnTo>
                    <a:pt x="0" y="0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54120" y="1552680"/>
              <a:ext cx="221292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REEDOM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&amp; CHO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938240" y="1603440"/>
            <a:ext cx="3338640" cy="2360520"/>
            <a:chOff x="1938240" y="1603440"/>
            <a:chExt cx="3338640" cy="2360520"/>
          </a:xfrm>
        </p:grpSpPr>
        <p:sp>
          <p:nvSpPr>
            <p:cNvPr id="96" name=""/>
            <p:cNvSpPr/>
            <p:nvPr/>
          </p:nvSpPr>
          <p:spPr>
            <a:xfrm>
              <a:off x="1938240" y="2693880"/>
              <a:ext cx="3338640" cy="1270080"/>
            </a:xfrm>
            <a:custGeom>
              <a:avLst/>
              <a:gdLst/>
              <a:ahLst/>
              <a:rect l="l" t="t" r="r" b="b"/>
              <a:pathLst>
                <a:path w="2543" h="790">
                  <a:moveTo>
                    <a:pt x="2542" y="789"/>
                  </a:moveTo>
                  <a:lnTo>
                    <a:pt x="0" y="0"/>
                  </a:lnTo>
                  <a:lnTo>
                    <a:pt x="2219" y="0"/>
                  </a:lnTo>
                  <a:lnTo>
                    <a:pt x="2542" y="78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51360" y="1612800"/>
              <a:ext cx="425520" cy="2351160"/>
            </a:xfrm>
            <a:custGeom>
              <a:avLst/>
              <a:gdLst/>
              <a:ahLst/>
              <a:rect l="l" t="t" r="r" b="b"/>
              <a:pathLst>
                <a:path w="324" h="1462">
                  <a:moveTo>
                    <a:pt x="323" y="1461"/>
                  </a:moveTo>
                  <a:lnTo>
                    <a:pt x="0" y="0"/>
                  </a:lnTo>
                  <a:lnTo>
                    <a:pt x="0" y="672"/>
                  </a:lnTo>
                  <a:lnTo>
                    <a:pt x="323" y="1461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41480" y="1616040"/>
              <a:ext cx="2919600" cy="1085760"/>
            </a:xfrm>
            <a:custGeom>
              <a:avLst/>
              <a:gdLst/>
              <a:ahLst/>
              <a:rect l="l" t="t" r="r" b="b"/>
              <a:pathLst>
                <a:path w="2224" h="675">
                  <a:moveTo>
                    <a:pt x="0" y="0"/>
                  </a:moveTo>
                  <a:lnTo>
                    <a:pt x="0" y="674"/>
                  </a:lnTo>
                  <a:lnTo>
                    <a:pt x="2223" y="674"/>
                  </a:lnTo>
                  <a:lnTo>
                    <a:pt x="2223" y="0"/>
                  </a:lnTo>
                  <a:lnTo>
                    <a:pt x="0" y="0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51720" y="1603440"/>
              <a:ext cx="242028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RIVA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ROPERT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41480" y="3425760"/>
            <a:ext cx="3335400" cy="1108440"/>
            <a:chOff x="1941480" y="3425760"/>
            <a:chExt cx="3335400" cy="1108440"/>
          </a:xfrm>
        </p:grpSpPr>
        <p:sp>
          <p:nvSpPr>
            <p:cNvPr id="101" name=""/>
            <p:cNvSpPr/>
            <p:nvPr/>
          </p:nvSpPr>
          <p:spPr>
            <a:xfrm>
              <a:off x="4851360" y="3429000"/>
              <a:ext cx="425520" cy="1087560"/>
            </a:xfrm>
            <a:custGeom>
              <a:avLst/>
              <a:gdLst/>
              <a:ahLst/>
              <a:rect l="l" t="t" r="r" b="b"/>
              <a:pathLst>
                <a:path w="324" h="676">
                  <a:moveTo>
                    <a:pt x="323" y="332"/>
                  </a:moveTo>
                  <a:lnTo>
                    <a:pt x="0" y="0"/>
                  </a:lnTo>
                  <a:lnTo>
                    <a:pt x="0" y="675"/>
                  </a:lnTo>
                  <a:lnTo>
                    <a:pt x="323" y="332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41480" y="3425760"/>
              <a:ext cx="2919600" cy="1090800"/>
            </a:xfrm>
            <a:custGeom>
              <a:avLst/>
              <a:gdLst/>
              <a:ahLst/>
              <a:rect l="l" t="t" r="r" b="b"/>
              <a:pathLst>
                <a:path w="2224" h="678">
                  <a:moveTo>
                    <a:pt x="0" y="0"/>
                  </a:moveTo>
                  <a:lnTo>
                    <a:pt x="0" y="677"/>
                  </a:lnTo>
                  <a:lnTo>
                    <a:pt x="2223" y="677"/>
                  </a:lnTo>
                  <a:lnTo>
                    <a:pt x="2223" y="0"/>
                  </a:lnTo>
                  <a:lnTo>
                    <a:pt x="0" y="0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75560" y="3470400"/>
              <a:ext cx="219312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ELF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NTERES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275440" y="3429000"/>
            <a:ext cx="3332160" cy="1087560"/>
            <a:chOff x="5275440" y="3429000"/>
            <a:chExt cx="3332160" cy="1087560"/>
          </a:xfrm>
        </p:grpSpPr>
        <p:sp>
          <p:nvSpPr>
            <p:cNvPr id="105" name=""/>
            <p:cNvSpPr/>
            <p:nvPr/>
          </p:nvSpPr>
          <p:spPr>
            <a:xfrm>
              <a:off x="5275440" y="3429000"/>
              <a:ext cx="414000" cy="1087560"/>
            </a:xfrm>
            <a:custGeom>
              <a:avLst/>
              <a:gdLst/>
              <a:ahLst/>
              <a:rect l="l" t="t" r="r" b="b"/>
              <a:pathLst>
                <a:path w="315" h="676">
                  <a:moveTo>
                    <a:pt x="0" y="332"/>
                  </a:moveTo>
                  <a:lnTo>
                    <a:pt x="314" y="0"/>
                  </a:lnTo>
                  <a:lnTo>
                    <a:pt x="314" y="675"/>
                  </a:lnTo>
                  <a:lnTo>
                    <a:pt x="0" y="332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88000" y="3429000"/>
              <a:ext cx="2919600" cy="1087560"/>
            </a:xfrm>
            <a:custGeom>
              <a:avLst/>
              <a:gdLst/>
              <a:ahLst/>
              <a:rect l="l" t="t" r="r" b="b"/>
              <a:pathLst>
                <a:path w="2224" h="676">
                  <a:moveTo>
                    <a:pt x="0" y="0"/>
                  </a:moveTo>
                  <a:lnTo>
                    <a:pt x="0" y="675"/>
                  </a:lnTo>
                  <a:lnTo>
                    <a:pt x="2223" y="675"/>
                  </a:lnTo>
                  <a:lnTo>
                    <a:pt x="2223" y="0"/>
                  </a:lnTo>
                  <a:lnTo>
                    <a:pt x="0" y="0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41280" y="3657600"/>
              <a:ext cx="282708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COMPETITIO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51400" y="3571920"/>
            <a:ext cx="298440" cy="274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3828960" y="947880"/>
          <a:ext cx="3032280" cy="456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8960" y="947880"/>
                    <a:ext cx="3032280" cy="45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3972600" y="1836720"/>
            <a:ext cx="2494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LAR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NUMB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02280" y="3159000"/>
            <a:ext cx="2269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19040" y="3394080"/>
            <a:ext cx="2188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ENTRY &amp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EX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46960" y="247680"/>
            <a:ext cx="6816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APITALIST IDE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1946160" y="3960720"/>
            <a:ext cx="3338640" cy="2352600"/>
            <a:chOff x="1946160" y="3960720"/>
            <a:chExt cx="3338640" cy="2352600"/>
          </a:xfrm>
        </p:grpSpPr>
        <p:sp>
          <p:nvSpPr>
            <p:cNvPr id="116" name=""/>
            <p:cNvSpPr/>
            <p:nvPr/>
          </p:nvSpPr>
          <p:spPr>
            <a:xfrm>
              <a:off x="1946160" y="3960720"/>
              <a:ext cx="3338640" cy="1271520"/>
            </a:xfrm>
            <a:custGeom>
              <a:avLst/>
              <a:gdLst/>
              <a:ahLst/>
              <a:rect l="l" t="t" r="r" b="b"/>
              <a:pathLst>
                <a:path w="2543" h="790">
                  <a:moveTo>
                    <a:pt x="2542" y="0"/>
                  </a:moveTo>
                  <a:lnTo>
                    <a:pt x="0" y="789"/>
                  </a:lnTo>
                  <a:lnTo>
                    <a:pt x="2219" y="789"/>
                  </a:lnTo>
                  <a:lnTo>
                    <a:pt x="254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59280" y="3960720"/>
              <a:ext cx="425520" cy="2352600"/>
            </a:xfrm>
            <a:custGeom>
              <a:avLst/>
              <a:gdLst/>
              <a:ahLst/>
              <a:rect l="l" t="t" r="r" b="b"/>
              <a:pathLst>
                <a:path w="324" h="1462">
                  <a:moveTo>
                    <a:pt x="323" y="0"/>
                  </a:moveTo>
                  <a:lnTo>
                    <a:pt x="0" y="1461"/>
                  </a:lnTo>
                  <a:lnTo>
                    <a:pt x="0" y="789"/>
                  </a:lnTo>
                  <a:lnTo>
                    <a:pt x="323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49400" y="5224320"/>
              <a:ext cx="2919600" cy="1086120"/>
            </a:xfrm>
            <a:custGeom>
              <a:avLst/>
              <a:gdLst/>
              <a:ahLst/>
              <a:rect l="l" t="t" r="r" b="b"/>
              <a:pathLst>
                <a:path w="2224" h="675">
                  <a:moveTo>
                    <a:pt x="0" y="674"/>
                  </a:moveTo>
                  <a:lnTo>
                    <a:pt x="0" y="0"/>
                  </a:lnTo>
                  <a:lnTo>
                    <a:pt x="2223" y="0"/>
                  </a:lnTo>
                  <a:lnTo>
                    <a:pt x="2223" y="674"/>
                  </a:lnTo>
                  <a:lnTo>
                    <a:pt x="0" y="674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32360" y="5227560"/>
              <a:ext cx="219312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MARKET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&amp; PRI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275440" y="1552680"/>
            <a:ext cx="3332160" cy="2411280"/>
            <a:chOff x="5275440" y="1552680"/>
            <a:chExt cx="3332160" cy="2411280"/>
          </a:xfrm>
        </p:grpSpPr>
        <p:sp>
          <p:nvSpPr>
            <p:cNvPr id="121" name=""/>
            <p:cNvSpPr/>
            <p:nvPr/>
          </p:nvSpPr>
          <p:spPr>
            <a:xfrm>
              <a:off x="5275440" y="2692440"/>
              <a:ext cx="3332160" cy="1271520"/>
            </a:xfrm>
            <a:custGeom>
              <a:avLst/>
              <a:gdLst/>
              <a:ahLst/>
              <a:rect l="l" t="t" r="r" b="b"/>
              <a:pathLst>
                <a:path w="2538" h="790">
                  <a:moveTo>
                    <a:pt x="0" y="789"/>
                  </a:moveTo>
                  <a:lnTo>
                    <a:pt x="2537" y="0"/>
                  </a:lnTo>
                  <a:lnTo>
                    <a:pt x="314" y="0"/>
                  </a:lnTo>
                  <a:lnTo>
                    <a:pt x="0" y="78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75440" y="1611360"/>
              <a:ext cx="414000" cy="2352600"/>
            </a:xfrm>
            <a:custGeom>
              <a:avLst/>
              <a:gdLst/>
              <a:ahLst/>
              <a:rect l="l" t="t" r="r" b="b"/>
              <a:pathLst>
                <a:path w="315" h="1462">
                  <a:moveTo>
                    <a:pt x="314" y="672"/>
                  </a:moveTo>
                  <a:lnTo>
                    <a:pt x="314" y="0"/>
                  </a:lnTo>
                  <a:lnTo>
                    <a:pt x="0" y="1461"/>
                  </a:lnTo>
                  <a:lnTo>
                    <a:pt x="314" y="672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88000" y="1616040"/>
              <a:ext cx="2919600" cy="1085760"/>
            </a:xfrm>
            <a:custGeom>
              <a:avLst/>
              <a:gdLst/>
              <a:ahLst/>
              <a:rect l="l" t="t" r="r" b="b"/>
              <a:pathLst>
                <a:path w="2224" h="675">
                  <a:moveTo>
                    <a:pt x="0" y="0"/>
                  </a:moveTo>
                  <a:lnTo>
                    <a:pt x="0" y="674"/>
                  </a:lnTo>
                  <a:lnTo>
                    <a:pt x="2223" y="674"/>
                  </a:lnTo>
                  <a:lnTo>
                    <a:pt x="2223" y="0"/>
                  </a:lnTo>
                  <a:lnTo>
                    <a:pt x="0" y="0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54120" y="1552680"/>
              <a:ext cx="221292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REEDOM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&amp; CHO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938240" y="1603440"/>
            <a:ext cx="3338640" cy="2360520"/>
            <a:chOff x="1938240" y="1603440"/>
            <a:chExt cx="3338640" cy="2360520"/>
          </a:xfrm>
        </p:grpSpPr>
        <p:sp>
          <p:nvSpPr>
            <p:cNvPr id="126" name=""/>
            <p:cNvSpPr/>
            <p:nvPr/>
          </p:nvSpPr>
          <p:spPr>
            <a:xfrm>
              <a:off x="1938240" y="2693880"/>
              <a:ext cx="3338640" cy="1270080"/>
            </a:xfrm>
            <a:custGeom>
              <a:avLst/>
              <a:gdLst/>
              <a:ahLst/>
              <a:rect l="l" t="t" r="r" b="b"/>
              <a:pathLst>
                <a:path w="2543" h="790">
                  <a:moveTo>
                    <a:pt x="2542" y="789"/>
                  </a:moveTo>
                  <a:lnTo>
                    <a:pt x="0" y="0"/>
                  </a:lnTo>
                  <a:lnTo>
                    <a:pt x="2219" y="0"/>
                  </a:lnTo>
                  <a:lnTo>
                    <a:pt x="2542" y="78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51360" y="1612800"/>
              <a:ext cx="425520" cy="2351160"/>
            </a:xfrm>
            <a:custGeom>
              <a:avLst/>
              <a:gdLst/>
              <a:ahLst/>
              <a:rect l="l" t="t" r="r" b="b"/>
              <a:pathLst>
                <a:path w="324" h="1462">
                  <a:moveTo>
                    <a:pt x="323" y="1461"/>
                  </a:moveTo>
                  <a:lnTo>
                    <a:pt x="0" y="0"/>
                  </a:lnTo>
                  <a:lnTo>
                    <a:pt x="0" y="672"/>
                  </a:lnTo>
                  <a:lnTo>
                    <a:pt x="323" y="1461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41480" y="1616040"/>
              <a:ext cx="2919600" cy="1085760"/>
            </a:xfrm>
            <a:custGeom>
              <a:avLst/>
              <a:gdLst/>
              <a:ahLst/>
              <a:rect l="l" t="t" r="r" b="b"/>
              <a:pathLst>
                <a:path w="2224" h="675">
                  <a:moveTo>
                    <a:pt x="0" y="0"/>
                  </a:moveTo>
                  <a:lnTo>
                    <a:pt x="0" y="674"/>
                  </a:lnTo>
                  <a:lnTo>
                    <a:pt x="2223" y="674"/>
                  </a:lnTo>
                  <a:lnTo>
                    <a:pt x="2223" y="0"/>
                  </a:lnTo>
                  <a:lnTo>
                    <a:pt x="0" y="0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51720" y="1603440"/>
              <a:ext cx="242028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RIVA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ROPERT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283360" y="3930480"/>
            <a:ext cx="3332160" cy="2373480"/>
            <a:chOff x="5283360" y="3930480"/>
            <a:chExt cx="3332160" cy="2373480"/>
          </a:xfrm>
        </p:grpSpPr>
        <p:sp>
          <p:nvSpPr>
            <p:cNvPr id="131" name=""/>
            <p:cNvSpPr/>
            <p:nvPr/>
          </p:nvSpPr>
          <p:spPr>
            <a:xfrm>
              <a:off x="5283360" y="3930480"/>
              <a:ext cx="3332160" cy="1271880"/>
            </a:xfrm>
            <a:custGeom>
              <a:avLst/>
              <a:gdLst/>
              <a:ahLst/>
              <a:rect l="l" t="t" r="r" b="b"/>
              <a:pathLst>
                <a:path w="2538" h="790">
                  <a:moveTo>
                    <a:pt x="0" y="0"/>
                  </a:moveTo>
                  <a:lnTo>
                    <a:pt x="2537" y="789"/>
                  </a:lnTo>
                  <a:lnTo>
                    <a:pt x="314" y="789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83360" y="3930480"/>
              <a:ext cx="412560" cy="2352960"/>
            </a:xfrm>
            <a:custGeom>
              <a:avLst/>
              <a:gdLst/>
              <a:ahLst/>
              <a:rect l="l" t="t" r="r" b="b"/>
              <a:pathLst>
                <a:path w="315" h="1462">
                  <a:moveTo>
                    <a:pt x="314" y="789"/>
                  </a:moveTo>
                  <a:lnTo>
                    <a:pt x="314" y="1461"/>
                  </a:lnTo>
                  <a:lnTo>
                    <a:pt x="0" y="0"/>
                  </a:lnTo>
                  <a:lnTo>
                    <a:pt x="314" y="789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95920" y="5194440"/>
              <a:ext cx="2919600" cy="1085760"/>
            </a:xfrm>
            <a:custGeom>
              <a:avLst/>
              <a:gdLst/>
              <a:ahLst/>
              <a:rect l="l" t="t" r="r" b="b"/>
              <a:pathLst>
                <a:path w="2224" h="675">
                  <a:moveTo>
                    <a:pt x="0" y="674"/>
                  </a:moveTo>
                  <a:lnTo>
                    <a:pt x="0" y="0"/>
                  </a:lnTo>
                  <a:lnTo>
                    <a:pt x="2223" y="0"/>
                  </a:lnTo>
                  <a:lnTo>
                    <a:pt x="2223" y="674"/>
                  </a:lnTo>
                  <a:lnTo>
                    <a:pt x="0" y="674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54480" y="5164200"/>
              <a:ext cx="227844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ACTIVE, BU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LIMITED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GOVERNMEN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941480" y="3425760"/>
            <a:ext cx="3335400" cy="1108440"/>
            <a:chOff x="1941480" y="3425760"/>
            <a:chExt cx="3335400" cy="1108440"/>
          </a:xfrm>
        </p:grpSpPr>
        <p:sp>
          <p:nvSpPr>
            <p:cNvPr id="136" name=""/>
            <p:cNvSpPr/>
            <p:nvPr/>
          </p:nvSpPr>
          <p:spPr>
            <a:xfrm>
              <a:off x="4851360" y="3429000"/>
              <a:ext cx="425520" cy="1087560"/>
            </a:xfrm>
            <a:custGeom>
              <a:avLst/>
              <a:gdLst/>
              <a:ahLst/>
              <a:rect l="l" t="t" r="r" b="b"/>
              <a:pathLst>
                <a:path w="324" h="676">
                  <a:moveTo>
                    <a:pt x="323" y="332"/>
                  </a:moveTo>
                  <a:lnTo>
                    <a:pt x="0" y="0"/>
                  </a:lnTo>
                  <a:lnTo>
                    <a:pt x="0" y="675"/>
                  </a:lnTo>
                  <a:lnTo>
                    <a:pt x="323" y="332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41480" y="3425760"/>
              <a:ext cx="2919600" cy="1090800"/>
            </a:xfrm>
            <a:custGeom>
              <a:avLst/>
              <a:gdLst/>
              <a:ahLst/>
              <a:rect l="l" t="t" r="r" b="b"/>
              <a:pathLst>
                <a:path w="2224" h="678">
                  <a:moveTo>
                    <a:pt x="0" y="0"/>
                  </a:moveTo>
                  <a:lnTo>
                    <a:pt x="0" y="677"/>
                  </a:lnTo>
                  <a:lnTo>
                    <a:pt x="2223" y="677"/>
                  </a:lnTo>
                  <a:lnTo>
                    <a:pt x="2223" y="0"/>
                  </a:lnTo>
                  <a:lnTo>
                    <a:pt x="0" y="0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75560" y="3470400"/>
              <a:ext cx="219312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ELF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NTERES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5275440" y="3429000"/>
            <a:ext cx="3332160" cy="1087560"/>
            <a:chOff x="5275440" y="3429000"/>
            <a:chExt cx="3332160" cy="1087560"/>
          </a:xfrm>
        </p:grpSpPr>
        <p:sp>
          <p:nvSpPr>
            <p:cNvPr id="140" name=""/>
            <p:cNvSpPr/>
            <p:nvPr/>
          </p:nvSpPr>
          <p:spPr>
            <a:xfrm>
              <a:off x="5275440" y="3429000"/>
              <a:ext cx="414000" cy="1087560"/>
            </a:xfrm>
            <a:custGeom>
              <a:avLst/>
              <a:gdLst/>
              <a:ahLst/>
              <a:rect l="l" t="t" r="r" b="b"/>
              <a:pathLst>
                <a:path w="315" h="676">
                  <a:moveTo>
                    <a:pt x="0" y="332"/>
                  </a:moveTo>
                  <a:lnTo>
                    <a:pt x="314" y="0"/>
                  </a:lnTo>
                  <a:lnTo>
                    <a:pt x="314" y="675"/>
                  </a:lnTo>
                  <a:lnTo>
                    <a:pt x="0" y="332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88000" y="3429000"/>
              <a:ext cx="2919600" cy="1087560"/>
            </a:xfrm>
            <a:custGeom>
              <a:avLst/>
              <a:gdLst/>
              <a:ahLst/>
              <a:rect l="l" t="t" r="r" b="b"/>
              <a:pathLst>
                <a:path w="2224" h="676">
                  <a:moveTo>
                    <a:pt x="0" y="0"/>
                  </a:moveTo>
                  <a:lnTo>
                    <a:pt x="0" y="675"/>
                  </a:lnTo>
                  <a:lnTo>
                    <a:pt x="2223" y="675"/>
                  </a:lnTo>
                  <a:lnTo>
                    <a:pt x="2223" y="0"/>
                  </a:lnTo>
                  <a:lnTo>
                    <a:pt x="0" y="0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41280" y="3657600"/>
              <a:ext cx="282708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COMPETITIO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441680" y="3571920"/>
            <a:ext cx="298440" cy="2746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046960" y="247680"/>
            <a:ext cx="6816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APITALIST IDE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1868400" y="154080"/>
            <a:ext cx="1292040" cy="1292040"/>
            <a:chOff x="1868400" y="154080"/>
            <a:chExt cx="1292040" cy="1292040"/>
          </a:xfrm>
        </p:grpSpPr>
        <p:sp>
          <p:nvSpPr>
            <p:cNvPr id="146" name=""/>
            <p:cNvSpPr/>
            <p:nvPr/>
          </p:nvSpPr>
          <p:spPr>
            <a:xfrm>
              <a:off x="2141280" y="177840"/>
              <a:ext cx="393840" cy="1244520"/>
            </a:xfrm>
            <a:custGeom>
              <a:avLst/>
              <a:gdLst/>
              <a:ahLst/>
              <a:rect l="l" t="t" r="r" b="b"/>
              <a:pathLst>
                <a:path w="248" h="784">
                  <a:moveTo>
                    <a:pt x="174" y="0"/>
                  </a:moveTo>
                  <a:lnTo>
                    <a:pt x="133" y="36"/>
                  </a:lnTo>
                  <a:lnTo>
                    <a:pt x="97" y="75"/>
                  </a:lnTo>
                  <a:lnTo>
                    <a:pt x="68" y="120"/>
                  </a:lnTo>
                  <a:lnTo>
                    <a:pt x="43" y="166"/>
                  </a:lnTo>
                  <a:lnTo>
                    <a:pt x="25" y="216"/>
                  </a:lnTo>
                  <a:lnTo>
                    <a:pt x="12" y="271"/>
                  </a:lnTo>
                  <a:lnTo>
                    <a:pt x="4" y="330"/>
                  </a:lnTo>
                  <a:lnTo>
                    <a:pt x="0" y="392"/>
                  </a:lnTo>
                  <a:lnTo>
                    <a:pt x="4" y="456"/>
                  </a:lnTo>
                  <a:lnTo>
                    <a:pt x="10" y="515"/>
                  </a:lnTo>
                  <a:lnTo>
                    <a:pt x="23" y="569"/>
                  </a:lnTo>
                  <a:lnTo>
                    <a:pt x="43" y="620"/>
                  </a:lnTo>
                  <a:lnTo>
                    <a:pt x="66" y="666"/>
                  </a:lnTo>
                  <a:lnTo>
                    <a:pt x="97" y="709"/>
                  </a:lnTo>
                  <a:lnTo>
                    <a:pt x="132" y="748"/>
                  </a:lnTo>
                  <a:lnTo>
                    <a:pt x="174" y="784"/>
                  </a:lnTo>
                  <a:lnTo>
                    <a:pt x="248" y="779"/>
                  </a:lnTo>
                  <a:lnTo>
                    <a:pt x="199" y="745"/>
                  </a:lnTo>
                  <a:lnTo>
                    <a:pt x="158" y="709"/>
                  </a:lnTo>
                  <a:lnTo>
                    <a:pt x="122" y="668"/>
                  </a:lnTo>
                  <a:lnTo>
                    <a:pt x="94" y="622"/>
                  </a:lnTo>
                  <a:lnTo>
                    <a:pt x="73" y="573"/>
                  </a:lnTo>
                  <a:lnTo>
                    <a:pt x="58" y="518"/>
                  </a:lnTo>
                  <a:lnTo>
                    <a:pt x="50" y="458"/>
                  </a:lnTo>
                  <a:lnTo>
                    <a:pt x="46" y="392"/>
                  </a:lnTo>
                  <a:lnTo>
                    <a:pt x="50" y="328"/>
                  </a:lnTo>
                  <a:lnTo>
                    <a:pt x="59" y="269"/>
                  </a:lnTo>
                  <a:lnTo>
                    <a:pt x="74" y="213"/>
                  </a:lnTo>
                  <a:lnTo>
                    <a:pt x="96" y="162"/>
                  </a:lnTo>
                  <a:lnTo>
                    <a:pt x="125" y="116"/>
                  </a:lnTo>
                  <a:lnTo>
                    <a:pt x="160" y="74"/>
                  </a:lnTo>
                  <a:lnTo>
                    <a:pt x="201" y="36"/>
                  </a:lnTo>
                  <a:lnTo>
                    <a:pt x="248" y="3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98400" y="182520"/>
              <a:ext cx="390600" cy="1235160"/>
            </a:xfrm>
            <a:custGeom>
              <a:avLst/>
              <a:gdLst/>
              <a:ahLst/>
              <a:rect l="l" t="t" r="r" b="b"/>
              <a:pathLst>
                <a:path w="246" h="778">
                  <a:moveTo>
                    <a:pt x="0" y="0"/>
                  </a:moveTo>
                  <a:lnTo>
                    <a:pt x="48" y="33"/>
                  </a:lnTo>
                  <a:lnTo>
                    <a:pt x="89" y="71"/>
                  </a:lnTo>
                  <a:lnTo>
                    <a:pt x="123" y="113"/>
                  </a:lnTo>
                  <a:lnTo>
                    <a:pt x="151" y="159"/>
                  </a:lnTo>
                  <a:lnTo>
                    <a:pt x="172" y="210"/>
                  </a:lnTo>
                  <a:lnTo>
                    <a:pt x="187" y="266"/>
                  </a:lnTo>
                  <a:lnTo>
                    <a:pt x="197" y="325"/>
                  </a:lnTo>
                  <a:lnTo>
                    <a:pt x="200" y="389"/>
                  </a:lnTo>
                  <a:lnTo>
                    <a:pt x="197" y="455"/>
                  </a:lnTo>
                  <a:lnTo>
                    <a:pt x="189" y="515"/>
                  </a:lnTo>
                  <a:lnTo>
                    <a:pt x="174" y="570"/>
                  </a:lnTo>
                  <a:lnTo>
                    <a:pt x="153" y="619"/>
                  </a:lnTo>
                  <a:lnTo>
                    <a:pt x="125" y="665"/>
                  </a:lnTo>
                  <a:lnTo>
                    <a:pt x="90" y="706"/>
                  </a:lnTo>
                  <a:lnTo>
                    <a:pt x="49" y="742"/>
                  </a:lnTo>
                  <a:lnTo>
                    <a:pt x="0" y="776"/>
                  </a:lnTo>
                  <a:lnTo>
                    <a:pt x="77" y="778"/>
                  </a:lnTo>
                  <a:lnTo>
                    <a:pt x="118" y="742"/>
                  </a:lnTo>
                  <a:lnTo>
                    <a:pt x="153" y="702"/>
                  </a:lnTo>
                  <a:lnTo>
                    <a:pt x="181" y="660"/>
                  </a:lnTo>
                  <a:lnTo>
                    <a:pt x="205" y="614"/>
                  </a:lnTo>
                  <a:lnTo>
                    <a:pt x="223" y="565"/>
                  </a:lnTo>
                  <a:lnTo>
                    <a:pt x="236" y="510"/>
                  </a:lnTo>
                  <a:lnTo>
                    <a:pt x="243" y="451"/>
                  </a:lnTo>
                  <a:lnTo>
                    <a:pt x="246" y="389"/>
                  </a:lnTo>
                  <a:lnTo>
                    <a:pt x="243" y="328"/>
                  </a:lnTo>
                  <a:lnTo>
                    <a:pt x="236" y="271"/>
                  </a:lnTo>
                  <a:lnTo>
                    <a:pt x="223" y="217"/>
                  </a:lnTo>
                  <a:lnTo>
                    <a:pt x="205" y="167"/>
                  </a:lnTo>
                  <a:lnTo>
                    <a:pt x="182" y="121"/>
                  </a:lnTo>
                  <a:lnTo>
                    <a:pt x="154" y="79"/>
                  </a:lnTo>
                  <a:lnTo>
                    <a:pt x="122" y="39"/>
                  </a:lnTo>
                  <a:lnTo>
                    <a:pt x="82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81120" y="185760"/>
              <a:ext cx="69840" cy="1236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00080" y="763560"/>
              <a:ext cx="1220760" cy="73080"/>
            </a:xfrm>
            <a:custGeom>
              <a:avLst/>
              <a:gdLst/>
              <a:ahLst/>
              <a:rect l="l" t="t" r="r" b="b"/>
              <a:pathLst>
                <a:path w="769" h="46">
                  <a:moveTo>
                    <a:pt x="0" y="46"/>
                  </a:moveTo>
                  <a:lnTo>
                    <a:pt x="769" y="46"/>
                  </a:lnTo>
                  <a:lnTo>
                    <a:pt x="766" y="0"/>
                  </a:lnTo>
                  <a:lnTo>
                    <a:pt x="0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35080" y="1031760"/>
              <a:ext cx="961920" cy="195480"/>
            </a:xfrm>
            <a:custGeom>
              <a:avLst/>
              <a:gdLst/>
              <a:ahLst/>
              <a:rect l="l" t="t" r="r" b="b"/>
              <a:pathLst>
                <a:path w="606" h="123">
                  <a:moveTo>
                    <a:pt x="28" y="122"/>
                  </a:moveTo>
                  <a:lnTo>
                    <a:pt x="41" y="112"/>
                  </a:lnTo>
                  <a:lnTo>
                    <a:pt x="56" y="103"/>
                  </a:lnTo>
                  <a:lnTo>
                    <a:pt x="71" y="95"/>
                  </a:lnTo>
                  <a:lnTo>
                    <a:pt x="85" y="87"/>
                  </a:lnTo>
                  <a:lnTo>
                    <a:pt x="102" y="80"/>
                  </a:lnTo>
                  <a:lnTo>
                    <a:pt x="117" y="74"/>
                  </a:lnTo>
                  <a:lnTo>
                    <a:pt x="133" y="69"/>
                  </a:lnTo>
                  <a:lnTo>
                    <a:pt x="151" y="62"/>
                  </a:lnTo>
                  <a:lnTo>
                    <a:pt x="167" y="59"/>
                  </a:lnTo>
                  <a:lnTo>
                    <a:pt x="185" y="54"/>
                  </a:lnTo>
                  <a:lnTo>
                    <a:pt x="204" y="51"/>
                  </a:lnTo>
                  <a:lnTo>
                    <a:pt x="222" y="49"/>
                  </a:lnTo>
                  <a:lnTo>
                    <a:pt x="241" y="48"/>
                  </a:lnTo>
                  <a:lnTo>
                    <a:pt x="261" y="46"/>
                  </a:lnTo>
                  <a:lnTo>
                    <a:pt x="281" y="44"/>
                  </a:lnTo>
                  <a:lnTo>
                    <a:pt x="302" y="44"/>
                  </a:lnTo>
                  <a:lnTo>
                    <a:pt x="323" y="44"/>
                  </a:lnTo>
                  <a:lnTo>
                    <a:pt x="345" y="46"/>
                  </a:lnTo>
                  <a:lnTo>
                    <a:pt x="366" y="48"/>
                  </a:lnTo>
                  <a:lnTo>
                    <a:pt x="386" y="49"/>
                  </a:lnTo>
                  <a:lnTo>
                    <a:pt x="405" y="51"/>
                  </a:lnTo>
                  <a:lnTo>
                    <a:pt x="423" y="54"/>
                  </a:lnTo>
                  <a:lnTo>
                    <a:pt x="441" y="59"/>
                  </a:lnTo>
                  <a:lnTo>
                    <a:pt x="460" y="64"/>
                  </a:lnTo>
                  <a:lnTo>
                    <a:pt x="476" y="69"/>
                  </a:lnTo>
                  <a:lnTo>
                    <a:pt x="494" y="74"/>
                  </a:lnTo>
                  <a:lnTo>
                    <a:pt x="509" y="80"/>
                  </a:lnTo>
                  <a:lnTo>
                    <a:pt x="525" y="89"/>
                  </a:lnTo>
                  <a:lnTo>
                    <a:pt x="540" y="95"/>
                  </a:lnTo>
                  <a:lnTo>
                    <a:pt x="555" y="103"/>
                  </a:lnTo>
                  <a:lnTo>
                    <a:pt x="570" y="113"/>
                  </a:lnTo>
                  <a:lnTo>
                    <a:pt x="583" y="123"/>
                  </a:lnTo>
                  <a:lnTo>
                    <a:pt x="589" y="120"/>
                  </a:lnTo>
                  <a:lnTo>
                    <a:pt x="599" y="107"/>
                  </a:lnTo>
                  <a:lnTo>
                    <a:pt x="606" y="92"/>
                  </a:lnTo>
                  <a:lnTo>
                    <a:pt x="606" y="84"/>
                  </a:lnTo>
                  <a:lnTo>
                    <a:pt x="591" y="74"/>
                  </a:lnTo>
                  <a:lnTo>
                    <a:pt x="574" y="64"/>
                  </a:lnTo>
                  <a:lnTo>
                    <a:pt x="560" y="54"/>
                  </a:lnTo>
                  <a:lnTo>
                    <a:pt x="543" y="46"/>
                  </a:lnTo>
                  <a:lnTo>
                    <a:pt x="525" y="39"/>
                  </a:lnTo>
                  <a:lnTo>
                    <a:pt x="507" y="31"/>
                  </a:lnTo>
                  <a:lnTo>
                    <a:pt x="489" y="26"/>
                  </a:lnTo>
                  <a:lnTo>
                    <a:pt x="471" y="20"/>
                  </a:lnTo>
                  <a:lnTo>
                    <a:pt x="451" y="15"/>
                  </a:lnTo>
                  <a:lnTo>
                    <a:pt x="432" y="12"/>
                  </a:lnTo>
                  <a:lnTo>
                    <a:pt x="412" y="8"/>
                  </a:lnTo>
                  <a:lnTo>
                    <a:pt x="391" y="5"/>
                  </a:lnTo>
                  <a:lnTo>
                    <a:pt x="369" y="3"/>
                  </a:lnTo>
                  <a:lnTo>
                    <a:pt x="348" y="2"/>
                  </a:lnTo>
                  <a:lnTo>
                    <a:pt x="325" y="0"/>
                  </a:lnTo>
                  <a:lnTo>
                    <a:pt x="302" y="0"/>
                  </a:lnTo>
                  <a:lnTo>
                    <a:pt x="279" y="0"/>
                  </a:lnTo>
                  <a:lnTo>
                    <a:pt x="258" y="2"/>
                  </a:lnTo>
                  <a:lnTo>
                    <a:pt x="236" y="3"/>
                  </a:lnTo>
                  <a:lnTo>
                    <a:pt x="215" y="5"/>
                  </a:lnTo>
                  <a:lnTo>
                    <a:pt x="194" y="8"/>
                  </a:lnTo>
                  <a:lnTo>
                    <a:pt x="174" y="12"/>
                  </a:lnTo>
                  <a:lnTo>
                    <a:pt x="154" y="16"/>
                  </a:lnTo>
                  <a:lnTo>
                    <a:pt x="136" y="20"/>
                  </a:lnTo>
                  <a:lnTo>
                    <a:pt x="117" y="26"/>
                  </a:lnTo>
                  <a:lnTo>
                    <a:pt x="99" y="33"/>
                  </a:lnTo>
                  <a:lnTo>
                    <a:pt x="80" y="39"/>
                  </a:lnTo>
                  <a:lnTo>
                    <a:pt x="64" y="48"/>
                  </a:lnTo>
                  <a:lnTo>
                    <a:pt x="48" y="56"/>
                  </a:lnTo>
                  <a:lnTo>
                    <a:pt x="31" y="64"/>
                  </a:lnTo>
                  <a:lnTo>
                    <a:pt x="15" y="74"/>
                  </a:lnTo>
                  <a:lnTo>
                    <a:pt x="0" y="85"/>
                  </a:lnTo>
                  <a:lnTo>
                    <a:pt x="0" y="94"/>
                  </a:lnTo>
                  <a:lnTo>
                    <a:pt x="8" y="107"/>
                  </a:lnTo>
                  <a:lnTo>
                    <a:pt x="20" y="118"/>
                  </a:lnTo>
                  <a:lnTo>
                    <a:pt x="28" y="12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30400" y="368280"/>
              <a:ext cx="974520" cy="200160"/>
            </a:xfrm>
            <a:custGeom>
              <a:avLst/>
              <a:gdLst/>
              <a:ahLst/>
              <a:rect l="l" t="t" r="r" b="b"/>
              <a:pathLst>
                <a:path w="614" h="126">
                  <a:moveTo>
                    <a:pt x="0" y="36"/>
                  </a:moveTo>
                  <a:lnTo>
                    <a:pt x="16" y="47"/>
                  </a:lnTo>
                  <a:lnTo>
                    <a:pt x="31" y="57"/>
                  </a:lnTo>
                  <a:lnTo>
                    <a:pt x="47" y="67"/>
                  </a:lnTo>
                  <a:lnTo>
                    <a:pt x="65" y="75"/>
                  </a:lnTo>
                  <a:lnTo>
                    <a:pt x="82" y="83"/>
                  </a:lnTo>
                  <a:lnTo>
                    <a:pt x="100" y="91"/>
                  </a:lnTo>
                  <a:lnTo>
                    <a:pt x="118" y="98"/>
                  </a:lnTo>
                  <a:lnTo>
                    <a:pt x="138" y="103"/>
                  </a:lnTo>
                  <a:lnTo>
                    <a:pt x="156" y="110"/>
                  </a:lnTo>
                  <a:lnTo>
                    <a:pt x="175" y="113"/>
                  </a:lnTo>
                  <a:lnTo>
                    <a:pt x="197" y="118"/>
                  </a:lnTo>
                  <a:lnTo>
                    <a:pt x="216" y="121"/>
                  </a:lnTo>
                  <a:lnTo>
                    <a:pt x="238" y="123"/>
                  </a:lnTo>
                  <a:lnTo>
                    <a:pt x="261" y="124"/>
                  </a:lnTo>
                  <a:lnTo>
                    <a:pt x="282" y="126"/>
                  </a:lnTo>
                  <a:lnTo>
                    <a:pt x="305" y="126"/>
                  </a:lnTo>
                  <a:lnTo>
                    <a:pt x="328" y="126"/>
                  </a:lnTo>
                  <a:lnTo>
                    <a:pt x="353" y="124"/>
                  </a:lnTo>
                  <a:lnTo>
                    <a:pt x="374" y="123"/>
                  </a:lnTo>
                  <a:lnTo>
                    <a:pt x="397" y="121"/>
                  </a:lnTo>
                  <a:lnTo>
                    <a:pt x="417" y="118"/>
                  </a:lnTo>
                  <a:lnTo>
                    <a:pt x="438" y="113"/>
                  </a:lnTo>
                  <a:lnTo>
                    <a:pt x="458" y="110"/>
                  </a:lnTo>
                  <a:lnTo>
                    <a:pt x="477" y="103"/>
                  </a:lnTo>
                  <a:lnTo>
                    <a:pt x="497" y="98"/>
                  </a:lnTo>
                  <a:lnTo>
                    <a:pt x="515" y="91"/>
                  </a:lnTo>
                  <a:lnTo>
                    <a:pt x="533" y="83"/>
                  </a:lnTo>
                  <a:lnTo>
                    <a:pt x="550" y="75"/>
                  </a:lnTo>
                  <a:lnTo>
                    <a:pt x="568" y="67"/>
                  </a:lnTo>
                  <a:lnTo>
                    <a:pt x="582" y="57"/>
                  </a:lnTo>
                  <a:lnTo>
                    <a:pt x="599" y="47"/>
                  </a:lnTo>
                  <a:lnTo>
                    <a:pt x="614" y="36"/>
                  </a:lnTo>
                  <a:lnTo>
                    <a:pt x="612" y="29"/>
                  </a:lnTo>
                  <a:lnTo>
                    <a:pt x="602" y="16"/>
                  </a:lnTo>
                  <a:lnTo>
                    <a:pt x="592" y="4"/>
                  </a:lnTo>
                  <a:lnTo>
                    <a:pt x="584" y="1"/>
                  </a:lnTo>
                  <a:lnTo>
                    <a:pt x="571" y="11"/>
                  </a:lnTo>
                  <a:lnTo>
                    <a:pt x="556" y="21"/>
                  </a:lnTo>
                  <a:lnTo>
                    <a:pt x="541" y="29"/>
                  </a:lnTo>
                  <a:lnTo>
                    <a:pt x="527" y="36"/>
                  </a:lnTo>
                  <a:lnTo>
                    <a:pt x="512" y="44"/>
                  </a:lnTo>
                  <a:lnTo>
                    <a:pt x="495" y="50"/>
                  </a:lnTo>
                  <a:lnTo>
                    <a:pt x="479" y="55"/>
                  </a:lnTo>
                  <a:lnTo>
                    <a:pt x="463" y="60"/>
                  </a:lnTo>
                  <a:lnTo>
                    <a:pt x="444" y="65"/>
                  </a:lnTo>
                  <a:lnTo>
                    <a:pt x="426" y="70"/>
                  </a:lnTo>
                  <a:lnTo>
                    <a:pt x="407" y="73"/>
                  </a:lnTo>
                  <a:lnTo>
                    <a:pt x="389" y="75"/>
                  </a:lnTo>
                  <a:lnTo>
                    <a:pt x="369" y="77"/>
                  </a:lnTo>
                  <a:lnTo>
                    <a:pt x="348" y="78"/>
                  </a:lnTo>
                  <a:lnTo>
                    <a:pt x="326" y="80"/>
                  </a:lnTo>
                  <a:lnTo>
                    <a:pt x="305" y="80"/>
                  </a:lnTo>
                  <a:lnTo>
                    <a:pt x="284" y="80"/>
                  </a:lnTo>
                  <a:lnTo>
                    <a:pt x="264" y="78"/>
                  </a:lnTo>
                  <a:lnTo>
                    <a:pt x="244" y="77"/>
                  </a:lnTo>
                  <a:lnTo>
                    <a:pt x="225" y="75"/>
                  </a:lnTo>
                  <a:lnTo>
                    <a:pt x="205" y="72"/>
                  </a:lnTo>
                  <a:lnTo>
                    <a:pt x="187" y="69"/>
                  </a:lnTo>
                  <a:lnTo>
                    <a:pt x="169" y="65"/>
                  </a:lnTo>
                  <a:lnTo>
                    <a:pt x="151" y="60"/>
                  </a:lnTo>
                  <a:lnTo>
                    <a:pt x="134" y="55"/>
                  </a:lnTo>
                  <a:lnTo>
                    <a:pt x="116" y="49"/>
                  </a:lnTo>
                  <a:lnTo>
                    <a:pt x="100" y="42"/>
                  </a:lnTo>
                  <a:lnTo>
                    <a:pt x="85" y="36"/>
                  </a:lnTo>
                  <a:lnTo>
                    <a:pt x="69" y="27"/>
                  </a:lnTo>
                  <a:lnTo>
                    <a:pt x="54" y="19"/>
                  </a:lnTo>
                  <a:lnTo>
                    <a:pt x="41" y="9"/>
                  </a:lnTo>
                  <a:lnTo>
                    <a:pt x="26" y="0"/>
                  </a:lnTo>
                  <a:lnTo>
                    <a:pt x="19" y="3"/>
                  </a:lnTo>
                  <a:lnTo>
                    <a:pt x="8" y="14"/>
                  </a:lnTo>
                  <a:lnTo>
                    <a:pt x="0" y="27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68400" y="154080"/>
              <a:ext cx="1292040" cy="1292040"/>
            </a:xfrm>
            <a:custGeom>
              <a:avLst/>
              <a:gdLst/>
              <a:ahLst/>
              <a:rect l="l" t="t" r="r" b="b"/>
              <a:pathLst>
                <a:path w="814" h="814">
                  <a:moveTo>
                    <a:pt x="407" y="44"/>
                  </a:moveTo>
                  <a:lnTo>
                    <a:pt x="443" y="46"/>
                  </a:lnTo>
                  <a:lnTo>
                    <a:pt x="478" y="51"/>
                  </a:lnTo>
                  <a:lnTo>
                    <a:pt x="512" y="59"/>
                  </a:lnTo>
                  <a:lnTo>
                    <a:pt x="545" y="72"/>
                  </a:lnTo>
                  <a:lnTo>
                    <a:pt x="576" y="87"/>
                  </a:lnTo>
                  <a:lnTo>
                    <a:pt x="607" y="105"/>
                  </a:lnTo>
                  <a:lnTo>
                    <a:pt x="637" y="126"/>
                  </a:lnTo>
                  <a:lnTo>
                    <a:pt x="663" y="151"/>
                  </a:lnTo>
                  <a:lnTo>
                    <a:pt x="688" y="177"/>
                  </a:lnTo>
                  <a:lnTo>
                    <a:pt x="707" y="207"/>
                  </a:lnTo>
                  <a:lnTo>
                    <a:pt x="725" y="236"/>
                  </a:lnTo>
                  <a:lnTo>
                    <a:pt x="740" y="269"/>
                  </a:lnTo>
                  <a:lnTo>
                    <a:pt x="753" y="302"/>
                  </a:lnTo>
                  <a:lnTo>
                    <a:pt x="761" y="336"/>
                  </a:lnTo>
                  <a:lnTo>
                    <a:pt x="766" y="371"/>
                  </a:lnTo>
                  <a:lnTo>
                    <a:pt x="768" y="407"/>
                  </a:lnTo>
                  <a:lnTo>
                    <a:pt x="766" y="443"/>
                  </a:lnTo>
                  <a:lnTo>
                    <a:pt x="761" y="479"/>
                  </a:lnTo>
                  <a:lnTo>
                    <a:pt x="752" y="514"/>
                  </a:lnTo>
                  <a:lnTo>
                    <a:pt x="740" y="546"/>
                  </a:lnTo>
                  <a:lnTo>
                    <a:pt x="724" y="579"/>
                  </a:lnTo>
                  <a:lnTo>
                    <a:pt x="706" y="609"/>
                  </a:lnTo>
                  <a:lnTo>
                    <a:pt x="686" y="637"/>
                  </a:lnTo>
                  <a:lnTo>
                    <a:pt x="661" y="661"/>
                  </a:lnTo>
                  <a:lnTo>
                    <a:pt x="637" y="686"/>
                  </a:lnTo>
                  <a:lnTo>
                    <a:pt x="609" y="706"/>
                  </a:lnTo>
                  <a:lnTo>
                    <a:pt x="579" y="724"/>
                  </a:lnTo>
                  <a:lnTo>
                    <a:pt x="546" y="740"/>
                  </a:lnTo>
                  <a:lnTo>
                    <a:pt x="514" y="752"/>
                  </a:lnTo>
                  <a:lnTo>
                    <a:pt x="479" y="761"/>
                  </a:lnTo>
                  <a:lnTo>
                    <a:pt x="443" y="766"/>
                  </a:lnTo>
                  <a:lnTo>
                    <a:pt x="407" y="768"/>
                  </a:lnTo>
                  <a:lnTo>
                    <a:pt x="371" y="766"/>
                  </a:lnTo>
                  <a:lnTo>
                    <a:pt x="336" y="761"/>
                  </a:lnTo>
                  <a:lnTo>
                    <a:pt x="302" y="753"/>
                  </a:lnTo>
                  <a:lnTo>
                    <a:pt x="269" y="740"/>
                  </a:lnTo>
                  <a:lnTo>
                    <a:pt x="236" y="725"/>
                  </a:lnTo>
                  <a:lnTo>
                    <a:pt x="207" y="707"/>
                  </a:lnTo>
                  <a:lnTo>
                    <a:pt x="177" y="688"/>
                  </a:lnTo>
                  <a:lnTo>
                    <a:pt x="151" y="663"/>
                  </a:lnTo>
                  <a:lnTo>
                    <a:pt x="126" y="637"/>
                  </a:lnTo>
                  <a:lnTo>
                    <a:pt x="105" y="607"/>
                  </a:lnTo>
                  <a:lnTo>
                    <a:pt x="87" y="578"/>
                  </a:lnTo>
                  <a:lnTo>
                    <a:pt x="72" y="545"/>
                  </a:lnTo>
                  <a:lnTo>
                    <a:pt x="59" y="512"/>
                  </a:lnTo>
                  <a:lnTo>
                    <a:pt x="51" y="478"/>
                  </a:lnTo>
                  <a:lnTo>
                    <a:pt x="46" y="443"/>
                  </a:lnTo>
                  <a:lnTo>
                    <a:pt x="44" y="407"/>
                  </a:lnTo>
                  <a:lnTo>
                    <a:pt x="46" y="371"/>
                  </a:lnTo>
                  <a:lnTo>
                    <a:pt x="51" y="336"/>
                  </a:lnTo>
                  <a:lnTo>
                    <a:pt x="59" y="302"/>
                  </a:lnTo>
                  <a:lnTo>
                    <a:pt x="72" y="269"/>
                  </a:lnTo>
                  <a:lnTo>
                    <a:pt x="87" y="236"/>
                  </a:lnTo>
                  <a:lnTo>
                    <a:pt x="105" y="207"/>
                  </a:lnTo>
                  <a:lnTo>
                    <a:pt x="126" y="177"/>
                  </a:lnTo>
                  <a:lnTo>
                    <a:pt x="151" y="151"/>
                  </a:lnTo>
                  <a:lnTo>
                    <a:pt x="177" y="126"/>
                  </a:lnTo>
                  <a:lnTo>
                    <a:pt x="207" y="105"/>
                  </a:lnTo>
                  <a:lnTo>
                    <a:pt x="236" y="87"/>
                  </a:lnTo>
                  <a:lnTo>
                    <a:pt x="269" y="72"/>
                  </a:lnTo>
                  <a:lnTo>
                    <a:pt x="302" y="59"/>
                  </a:lnTo>
                  <a:lnTo>
                    <a:pt x="336" y="51"/>
                  </a:lnTo>
                  <a:lnTo>
                    <a:pt x="371" y="46"/>
                  </a:lnTo>
                  <a:lnTo>
                    <a:pt x="407" y="44"/>
                  </a:lnTo>
                  <a:lnTo>
                    <a:pt x="407" y="0"/>
                  </a:lnTo>
                  <a:lnTo>
                    <a:pt x="366" y="2"/>
                  </a:lnTo>
                  <a:lnTo>
                    <a:pt x="325" y="8"/>
                  </a:lnTo>
                  <a:lnTo>
                    <a:pt x="286" y="18"/>
                  </a:lnTo>
                  <a:lnTo>
                    <a:pt x="248" y="31"/>
                  </a:lnTo>
                  <a:lnTo>
                    <a:pt x="213" y="49"/>
                  </a:lnTo>
                  <a:lnTo>
                    <a:pt x="179" y="69"/>
                  </a:lnTo>
                  <a:lnTo>
                    <a:pt x="148" y="94"/>
                  </a:lnTo>
                  <a:lnTo>
                    <a:pt x="120" y="120"/>
                  </a:lnTo>
                  <a:lnTo>
                    <a:pt x="94" y="148"/>
                  </a:lnTo>
                  <a:lnTo>
                    <a:pt x="69" y="179"/>
                  </a:lnTo>
                  <a:lnTo>
                    <a:pt x="49" y="213"/>
                  </a:lnTo>
                  <a:lnTo>
                    <a:pt x="31" y="248"/>
                  </a:lnTo>
                  <a:lnTo>
                    <a:pt x="18" y="286"/>
                  </a:lnTo>
                  <a:lnTo>
                    <a:pt x="8" y="325"/>
                  </a:lnTo>
                  <a:lnTo>
                    <a:pt x="2" y="366"/>
                  </a:lnTo>
                  <a:lnTo>
                    <a:pt x="0" y="407"/>
                  </a:lnTo>
                  <a:lnTo>
                    <a:pt x="2" y="448"/>
                  </a:lnTo>
                  <a:lnTo>
                    <a:pt x="8" y="489"/>
                  </a:lnTo>
                  <a:lnTo>
                    <a:pt x="18" y="528"/>
                  </a:lnTo>
                  <a:lnTo>
                    <a:pt x="31" y="566"/>
                  </a:lnTo>
                  <a:lnTo>
                    <a:pt x="49" y="601"/>
                  </a:lnTo>
                  <a:lnTo>
                    <a:pt x="69" y="635"/>
                  </a:lnTo>
                  <a:lnTo>
                    <a:pt x="94" y="666"/>
                  </a:lnTo>
                  <a:lnTo>
                    <a:pt x="120" y="694"/>
                  </a:lnTo>
                  <a:lnTo>
                    <a:pt x="148" y="720"/>
                  </a:lnTo>
                  <a:lnTo>
                    <a:pt x="179" y="745"/>
                  </a:lnTo>
                  <a:lnTo>
                    <a:pt x="213" y="765"/>
                  </a:lnTo>
                  <a:lnTo>
                    <a:pt x="248" y="783"/>
                  </a:lnTo>
                  <a:lnTo>
                    <a:pt x="286" y="796"/>
                  </a:lnTo>
                  <a:lnTo>
                    <a:pt x="325" y="806"/>
                  </a:lnTo>
                  <a:lnTo>
                    <a:pt x="366" y="812"/>
                  </a:lnTo>
                  <a:lnTo>
                    <a:pt x="407" y="814"/>
                  </a:lnTo>
                  <a:lnTo>
                    <a:pt x="448" y="812"/>
                  </a:lnTo>
                  <a:lnTo>
                    <a:pt x="489" y="806"/>
                  </a:lnTo>
                  <a:lnTo>
                    <a:pt x="528" y="796"/>
                  </a:lnTo>
                  <a:lnTo>
                    <a:pt x="566" y="783"/>
                  </a:lnTo>
                  <a:lnTo>
                    <a:pt x="601" y="765"/>
                  </a:lnTo>
                  <a:lnTo>
                    <a:pt x="635" y="745"/>
                  </a:lnTo>
                  <a:lnTo>
                    <a:pt x="666" y="720"/>
                  </a:lnTo>
                  <a:lnTo>
                    <a:pt x="694" y="694"/>
                  </a:lnTo>
                  <a:lnTo>
                    <a:pt x="720" y="666"/>
                  </a:lnTo>
                  <a:lnTo>
                    <a:pt x="745" y="635"/>
                  </a:lnTo>
                  <a:lnTo>
                    <a:pt x="765" y="601"/>
                  </a:lnTo>
                  <a:lnTo>
                    <a:pt x="783" y="566"/>
                  </a:lnTo>
                  <a:lnTo>
                    <a:pt x="796" y="528"/>
                  </a:lnTo>
                  <a:lnTo>
                    <a:pt x="806" y="489"/>
                  </a:lnTo>
                  <a:lnTo>
                    <a:pt x="812" y="448"/>
                  </a:lnTo>
                  <a:lnTo>
                    <a:pt x="814" y="407"/>
                  </a:lnTo>
                  <a:lnTo>
                    <a:pt x="812" y="366"/>
                  </a:lnTo>
                  <a:lnTo>
                    <a:pt x="806" y="325"/>
                  </a:lnTo>
                  <a:lnTo>
                    <a:pt x="796" y="286"/>
                  </a:lnTo>
                  <a:lnTo>
                    <a:pt x="783" y="248"/>
                  </a:lnTo>
                  <a:lnTo>
                    <a:pt x="765" y="213"/>
                  </a:lnTo>
                  <a:lnTo>
                    <a:pt x="745" y="179"/>
                  </a:lnTo>
                  <a:lnTo>
                    <a:pt x="720" y="148"/>
                  </a:lnTo>
                  <a:lnTo>
                    <a:pt x="694" y="120"/>
                  </a:lnTo>
                  <a:lnTo>
                    <a:pt x="666" y="94"/>
                  </a:lnTo>
                  <a:lnTo>
                    <a:pt x="635" y="69"/>
                  </a:lnTo>
                  <a:lnTo>
                    <a:pt x="601" y="49"/>
                  </a:lnTo>
                  <a:lnTo>
                    <a:pt x="566" y="31"/>
                  </a:lnTo>
                  <a:lnTo>
                    <a:pt x="528" y="18"/>
                  </a:lnTo>
                  <a:lnTo>
                    <a:pt x="489" y="8"/>
                  </a:lnTo>
                  <a:lnTo>
                    <a:pt x="448" y="2"/>
                  </a:lnTo>
                  <a:lnTo>
                    <a:pt x="407" y="0"/>
                  </a:lnTo>
                  <a:lnTo>
                    <a:pt x="407" y="4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311560" y="114480"/>
            <a:ext cx="5918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LOBAL  PERSPE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86080" y="814320"/>
            <a:ext cx="646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dex of Economic Freedom, Select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822840" y="1689120"/>
            <a:ext cx="3301920" cy="1143000"/>
            <a:chOff x="3822840" y="1689120"/>
            <a:chExt cx="3301920" cy="1143000"/>
          </a:xfrm>
        </p:grpSpPr>
        <p:sp>
          <p:nvSpPr>
            <p:cNvPr id="156" name=""/>
            <p:cNvSpPr/>
            <p:nvPr/>
          </p:nvSpPr>
          <p:spPr>
            <a:xfrm>
              <a:off x="3822840" y="1689120"/>
              <a:ext cx="3301920" cy="33012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 Hong Ko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22840" y="2095560"/>
              <a:ext cx="3301920" cy="33012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 New Zeal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22840" y="2502000"/>
              <a:ext cx="3301920" cy="33012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 United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822840" y="2908440"/>
            <a:ext cx="3301920" cy="1143000"/>
            <a:chOff x="3822840" y="2908440"/>
            <a:chExt cx="3301920" cy="1143000"/>
          </a:xfrm>
        </p:grpSpPr>
        <p:sp>
          <p:nvSpPr>
            <p:cNvPr id="160" name=""/>
            <p:cNvSpPr/>
            <p:nvPr/>
          </p:nvSpPr>
          <p:spPr>
            <a:xfrm>
              <a:off x="3822840" y="2908440"/>
              <a:ext cx="3301920" cy="3301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33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6 Ch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22840" y="3314880"/>
              <a:ext cx="3301920" cy="3301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33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8 Can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22840" y="3720960"/>
              <a:ext cx="3301920" cy="3304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33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0 Fr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822840" y="4127400"/>
            <a:ext cx="3301920" cy="1143000"/>
            <a:chOff x="3822840" y="4127400"/>
            <a:chExt cx="3301920" cy="1143000"/>
          </a:xfrm>
        </p:grpSpPr>
        <p:sp>
          <p:nvSpPr>
            <p:cNvPr id="164" name=""/>
            <p:cNvSpPr/>
            <p:nvPr/>
          </p:nvSpPr>
          <p:spPr>
            <a:xfrm>
              <a:off x="3822840" y="4127400"/>
              <a:ext cx="3301920" cy="33048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2 Malays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22840" y="4533840"/>
              <a:ext cx="3301920" cy="3301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99 Pakist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22840" y="4940280"/>
              <a:ext cx="3301920" cy="3301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7 Chi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822840" y="5346720"/>
            <a:ext cx="3301920" cy="1143000"/>
            <a:chOff x="3822840" y="5346720"/>
            <a:chExt cx="3301920" cy="1143000"/>
          </a:xfrm>
        </p:grpSpPr>
        <p:sp>
          <p:nvSpPr>
            <p:cNvPr id="168" name=""/>
            <p:cNvSpPr/>
            <p:nvPr/>
          </p:nvSpPr>
          <p:spPr>
            <a:xfrm>
              <a:off x="3822840" y="5346720"/>
              <a:ext cx="3301920" cy="330120"/>
            </a:xfrm>
            <a:prstGeom prst="rect">
              <a:avLst/>
            </a:prstGeom>
            <a:solidFill>
              <a:srgbClr val="ff99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46 Ir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22840" y="5753160"/>
              <a:ext cx="3301920" cy="330120"/>
            </a:xfrm>
            <a:prstGeom prst="rect">
              <a:avLst/>
            </a:prstGeom>
            <a:solidFill>
              <a:srgbClr val="ff99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55 Cub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22840" y="6159600"/>
              <a:ext cx="3301920" cy="330120"/>
            </a:xfrm>
            <a:prstGeom prst="rect">
              <a:avLst/>
            </a:prstGeom>
            <a:solidFill>
              <a:srgbClr val="ff99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56 North Ko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594240" y="1676520"/>
            <a:ext cx="215640" cy="1155600"/>
          </a:xfrm>
          <a:custGeom>
            <a:avLst/>
            <a:gdLst>
              <a:gd name="textAreaLeft" fmla="*/ 137880 w 215640"/>
              <a:gd name="textAreaRight" fmla="*/ 216000 w 215640"/>
              <a:gd name="textAreaTop" fmla="*/ 29880 h 1155600"/>
              <a:gd name="textAreaBottom" fmla="*/ 1125720 h 1155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94240" y="2895480"/>
            <a:ext cx="215640" cy="1155960"/>
          </a:xfrm>
          <a:custGeom>
            <a:avLst/>
            <a:gdLst>
              <a:gd name="textAreaLeft" fmla="*/ 137880 w 215640"/>
              <a:gd name="textAreaRight" fmla="*/ 216000 w 215640"/>
              <a:gd name="textAreaTop" fmla="*/ 29880 h 1155960"/>
              <a:gd name="textAreaBottom" fmla="*/ 1126080 h 115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94240" y="4114800"/>
            <a:ext cx="215640" cy="1155600"/>
          </a:xfrm>
          <a:custGeom>
            <a:avLst/>
            <a:gdLst>
              <a:gd name="textAreaLeft" fmla="*/ 137880 w 215640"/>
              <a:gd name="textAreaRight" fmla="*/ 216000 w 215640"/>
              <a:gd name="textAreaTop" fmla="*/ 29880 h 1155600"/>
              <a:gd name="textAreaBottom" fmla="*/ 1125720 h 1155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94240" y="5334120"/>
            <a:ext cx="215640" cy="1155600"/>
          </a:xfrm>
          <a:custGeom>
            <a:avLst/>
            <a:gdLst>
              <a:gd name="textAreaLeft" fmla="*/ 137880 w 215640"/>
              <a:gd name="textAreaRight" fmla="*/ 216000 w 215640"/>
              <a:gd name="textAreaTop" fmla="*/ 29880 h 1155600"/>
              <a:gd name="textAreaBottom" fmla="*/ 1125720 h 1155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85960" y="2009880"/>
            <a:ext cx="9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77280" y="3076560"/>
            <a:ext cx="143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77280" y="4282920"/>
            <a:ext cx="143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63280" y="5680080"/>
            <a:ext cx="1875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38240" y="1146240"/>
            <a:ext cx="537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ankings among 156 nations,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15840" y="6437160"/>
            <a:ext cx="4251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ource: Heritage Foundation &amp; The Wall Street Jou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70120" y="957240"/>
            <a:ext cx="62226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Brush Script MT"/>
              </a:rPr>
              <a:t>Other Characteristic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96200" y="247680"/>
            <a:ext cx="6816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APITALIST IDE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128680" y="2092320"/>
            <a:ext cx="6662880" cy="2089080"/>
            <a:chOff x="2128680" y="2092320"/>
            <a:chExt cx="6662880" cy="2089080"/>
          </a:xfrm>
        </p:grpSpPr>
        <p:sp>
          <p:nvSpPr>
            <p:cNvPr id="184" name=""/>
            <p:cNvSpPr/>
            <p:nvPr/>
          </p:nvSpPr>
          <p:spPr>
            <a:xfrm>
              <a:off x="2128680" y="3262320"/>
              <a:ext cx="6662880" cy="919080"/>
            </a:xfrm>
            <a:custGeom>
              <a:avLst/>
              <a:gdLst/>
              <a:ahLst/>
              <a:rect l="l" t="t" r="r" b="b"/>
              <a:pathLst>
                <a:path w="4701" h="579">
                  <a:moveTo>
                    <a:pt x="0" y="0"/>
                  </a:moveTo>
                  <a:lnTo>
                    <a:pt x="2349" y="578"/>
                  </a:lnTo>
                  <a:lnTo>
                    <a:pt x="470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128680" y="2197080"/>
              <a:ext cx="6662880" cy="1066680"/>
            </a:xfrm>
            <a:custGeom>
              <a:avLst/>
              <a:gdLst/>
              <a:ahLst/>
              <a:rect l="l" t="t" r="r" b="b"/>
              <a:pathLst>
                <a:path w="4701" h="672">
                  <a:moveTo>
                    <a:pt x="0" y="671"/>
                  </a:moveTo>
                  <a:lnTo>
                    <a:pt x="0" y="0"/>
                  </a:lnTo>
                  <a:lnTo>
                    <a:pt x="4700" y="0"/>
                  </a:lnTo>
                  <a:lnTo>
                    <a:pt x="4700" y="671"/>
                  </a:lnTo>
                  <a:lnTo>
                    <a:pt x="0" y="671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71840" y="2092320"/>
              <a:ext cx="574992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</a:rPr>
                <a:t>Reliance on Technolog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</a:rPr>
                <a:t>and Capital Good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414520" y="4390920"/>
            <a:ext cx="6241680" cy="2018880"/>
            <a:chOff x="2414520" y="4390920"/>
            <a:chExt cx="6241680" cy="2018880"/>
          </a:xfrm>
        </p:grpSpPr>
        <p:grpSp>
          <p:nvGrpSpPr>
            <p:cNvPr id="188" name=""/>
            <p:cNvGrpSpPr/>
            <p:nvPr/>
          </p:nvGrpSpPr>
          <p:grpSpPr>
            <a:xfrm>
              <a:off x="2414520" y="4390920"/>
              <a:ext cx="2919240" cy="2018880"/>
              <a:chOff x="2414520" y="4390920"/>
              <a:chExt cx="2919240" cy="2018880"/>
            </a:xfrm>
          </p:grpSpPr>
          <p:sp>
            <p:nvSpPr>
              <p:cNvPr id="189" name=""/>
              <p:cNvSpPr/>
              <p:nvPr/>
            </p:nvSpPr>
            <p:spPr>
              <a:xfrm>
                <a:off x="2415600" y="4631400"/>
                <a:ext cx="667440" cy="1514880"/>
              </a:xfrm>
              <a:custGeom>
                <a:avLst/>
                <a:gdLst/>
                <a:ahLst/>
                <a:rect l="l" t="t" r="r" b="b"/>
                <a:pathLst>
                  <a:path w="479" h="1171">
                    <a:moveTo>
                      <a:pt x="478" y="1170"/>
                    </a:moveTo>
                    <a:lnTo>
                      <a:pt x="478" y="0"/>
                    </a:lnTo>
                    <a:lnTo>
                      <a:pt x="0" y="0"/>
                    </a:lnTo>
                    <a:lnTo>
                      <a:pt x="0" y="1170"/>
                    </a:lnTo>
                    <a:lnTo>
                      <a:pt x="478" y="1170"/>
                    </a:lnTo>
                  </a:path>
                </a:pathLst>
              </a:custGeom>
              <a:solidFill>
                <a:srgbClr val="70230c"/>
              </a:solidFill>
              <a:ln cap="rnd" w="12600">
                <a:solidFill>
                  <a:srgbClr val="70230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191760" y="5474880"/>
                <a:ext cx="2142000" cy="704880"/>
              </a:xfrm>
              <a:custGeom>
                <a:avLst/>
                <a:gdLst/>
                <a:ahLst/>
                <a:rect l="l" t="t" r="r" b="b"/>
                <a:pathLst>
                  <a:path w="1537" h="545">
                    <a:moveTo>
                      <a:pt x="1536" y="0"/>
                    </a:moveTo>
                    <a:lnTo>
                      <a:pt x="1536" y="276"/>
                    </a:lnTo>
                    <a:lnTo>
                      <a:pt x="1388" y="276"/>
                    </a:lnTo>
                    <a:lnTo>
                      <a:pt x="1388" y="442"/>
                    </a:lnTo>
                    <a:lnTo>
                      <a:pt x="1241" y="442"/>
                    </a:lnTo>
                    <a:lnTo>
                      <a:pt x="1170" y="544"/>
                    </a:lnTo>
                    <a:lnTo>
                      <a:pt x="532" y="544"/>
                    </a:lnTo>
                    <a:lnTo>
                      <a:pt x="469" y="350"/>
                    </a:lnTo>
                    <a:lnTo>
                      <a:pt x="283" y="286"/>
                    </a:lnTo>
                    <a:lnTo>
                      <a:pt x="140" y="383"/>
                    </a:lnTo>
                    <a:lnTo>
                      <a:pt x="140" y="544"/>
                    </a:lnTo>
                    <a:lnTo>
                      <a:pt x="0" y="544"/>
                    </a:lnTo>
                    <a:lnTo>
                      <a:pt x="0" y="0"/>
                    </a:lnTo>
                    <a:lnTo>
                      <a:pt x="469" y="0"/>
                    </a:lnTo>
                    <a:lnTo>
                      <a:pt x="650" y="157"/>
                    </a:lnTo>
                    <a:lnTo>
                      <a:pt x="693" y="157"/>
                    </a:lnTo>
                    <a:lnTo>
                      <a:pt x="693" y="0"/>
                    </a:lnTo>
                    <a:lnTo>
                      <a:pt x="1536" y="0"/>
                    </a:lnTo>
                  </a:path>
                </a:pathLst>
              </a:custGeom>
              <a:solidFill>
                <a:srgbClr val="ffea00"/>
              </a:solidFill>
              <a:ln cap="rnd" w="12600">
                <a:solidFill>
                  <a:srgbClr val="ffea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392640" y="5865480"/>
                <a:ext cx="469440" cy="433080"/>
              </a:xfrm>
              <a:custGeom>
                <a:avLst/>
                <a:gdLst/>
                <a:ahLst/>
                <a:rect l="l" t="t" r="r" b="b"/>
                <a:pathLst>
                  <a:path w="337" h="335">
                    <a:moveTo>
                      <a:pt x="0" y="167"/>
                    </a:moveTo>
                    <a:lnTo>
                      <a:pt x="1" y="150"/>
                    </a:lnTo>
                    <a:lnTo>
                      <a:pt x="3" y="133"/>
                    </a:lnTo>
                    <a:lnTo>
                      <a:pt x="8" y="116"/>
                    </a:lnTo>
                    <a:lnTo>
                      <a:pt x="13" y="100"/>
                    </a:lnTo>
                    <a:lnTo>
                      <a:pt x="21" y="85"/>
                    </a:lnTo>
                    <a:lnTo>
                      <a:pt x="31" y="70"/>
                    </a:lnTo>
                    <a:lnTo>
                      <a:pt x="42" y="56"/>
                    </a:lnTo>
                    <a:lnTo>
                      <a:pt x="55" y="44"/>
                    </a:lnTo>
                    <a:lnTo>
                      <a:pt x="68" y="33"/>
                    </a:lnTo>
                    <a:lnTo>
                      <a:pt x="81" y="24"/>
                    </a:lnTo>
                    <a:lnTo>
                      <a:pt x="98" y="16"/>
                    </a:lnTo>
                    <a:lnTo>
                      <a:pt x="113" y="9"/>
                    </a:lnTo>
                    <a:lnTo>
                      <a:pt x="130" y="5"/>
                    </a:lnTo>
                    <a:lnTo>
                      <a:pt x="148" y="1"/>
                    </a:lnTo>
                    <a:lnTo>
                      <a:pt x="165" y="0"/>
                    </a:lnTo>
                    <a:lnTo>
                      <a:pt x="182" y="0"/>
                    </a:lnTo>
                    <a:lnTo>
                      <a:pt x="199" y="2"/>
                    </a:lnTo>
                    <a:lnTo>
                      <a:pt x="216" y="7"/>
                    </a:lnTo>
                    <a:lnTo>
                      <a:pt x="232" y="13"/>
                    </a:lnTo>
                    <a:lnTo>
                      <a:pt x="248" y="20"/>
                    </a:lnTo>
                    <a:lnTo>
                      <a:pt x="264" y="29"/>
                    </a:lnTo>
                    <a:lnTo>
                      <a:pt x="277" y="39"/>
                    </a:lnTo>
                    <a:lnTo>
                      <a:pt x="289" y="51"/>
                    </a:lnTo>
                    <a:lnTo>
                      <a:pt x="300" y="65"/>
                    </a:lnTo>
                    <a:lnTo>
                      <a:pt x="311" y="79"/>
                    </a:lnTo>
                    <a:lnTo>
                      <a:pt x="319" y="94"/>
                    </a:lnTo>
                    <a:lnTo>
                      <a:pt x="326" y="110"/>
                    </a:lnTo>
                    <a:lnTo>
                      <a:pt x="331" y="126"/>
                    </a:lnTo>
                    <a:lnTo>
                      <a:pt x="334" y="142"/>
                    </a:lnTo>
                    <a:lnTo>
                      <a:pt x="336" y="160"/>
                    </a:lnTo>
                    <a:lnTo>
                      <a:pt x="336" y="177"/>
                    </a:lnTo>
                    <a:lnTo>
                      <a:pt x="334" y="195"/>
                    </a:lnTo>
                    <a:lnTo>
                      <a:pt x="330" y="211"/>
                    </a:lnTo>
                    <a:lnTo>
                      <a:pt x="325" y="228"/>
                    </a:lnTo>
                    <a:lnTo>
                      <a:pt x="318" y="244"/>
                    </a:lnTo>
                    <a:lnTo>
                      <a:pt x="309" y="259"/>
                    </a:lnTo>
                    <a:lnTo>
                      <a:pt x="299" y="273"/>
                    </a:lnTo>
                    <a:lnTo>
                      <a:pt x="287" y="286"/>
                    </a:lnTo>
                    <a:lnTo>
                      <a:pt x="275" y="297"/>
                    </a:lnTo>
                    <a:lnTo>
                      <a:pt x="260" y="307"/>
                    </a:lnTo>
                    <a:lnTo>
                      <a:pt x="245" y="316"/>
                    </a:lnTo>
                    <a:lnTo>
                      <a:pt x="229" y="323"/>
                    </a:lnTo>
                    <a:lnTo>
                      <a:pt x="213" y="328"/>
                    </a:lnTo>
                    <a:lnTo>
                      <a:pt x="196" y="331"/>
                    </a:lnTo>
                    <a:lnTo>
                      <a:pt x="179" y="334"/>
                    </a:lnTo>
                    <a:lnTo>
                      <a:pt x="161" y="334"/>
                    </a:lnTo>
                    <a:lnTo>
                      <a:pt x="144" y="333"/>
                    </a:lnTo>
                    <a:lnTo>
                      <a:pt x="127" y="329"/>
                    </a:lnTo>
                    <a:lnTo>
                      <a:pt x="110" y="324"/>
                    </a:lnTo>
                    <a:lnTo>
                      <a:pt x="95" y="317"/>
                    </a:lnTo>
                    <a:lnTo>
                      <a:pt x="79" y="309"/>
                    </a:lnTo>
                    <a:lnTo>
                      <a:pt x="65" y="299"/>
                    </a:lnTo>
                    <a:lnTo>
                      <a:pt x="51" y="288"/>
                    </a:lnTo>
                    <a:lnTo>
                      <a:pt x="40" y="276"/>
                    </a:lnTo>
                    <a:lnTo>
                      <a:pt x="29" y="262"/>
                    </a:lnTo>
                    <a:lnTo>
                      <a:pt x="20" y="247"/>
                    </a:lnTo>
                    <a:lnTo>
                      <a:pt x="12" y="231"/>
                    </a:lnTo>
                    <a:lnTo>
                      <a:pt x="7" y="215"/>
                    </a:lnTo>
                    <a:lnTo>
                      <a:pt x="2" y="198"/>
                    </a:lnTo>
                    <a:lnTo>
                      <a:pt x="0" y="181"/>
                    </a:lnTo>
                    <a:lnTo>
                      <a:pt x="0" y="167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910040" y="6054120"/>
                <a:ext cx="274320" cy="252000"/>
              </a:xfrm>
              <a:custGeom>
                <a:avLst/>
                <a:gdLst/>
                <a:ahLst/>
                <a:rect l="l" t="t" r="r" b="b"/>
                <a:pathLst>
                  <a:path w="197" h="195">
                    <a:moveTo>
                      <a:pt x="0" y="96"/>
                    </a:moveTo>
                    <a:lnTo>
                      <a:pt x="1" y="84"/>
                    </a:lnTo>
                    <a:lnTo>
                      <a:pt x="3" y="71"/>
                    </a:lnTo>
                    <a:lnTo>
                      <a:pt x="8" y="59"/>
                    </a:lnTo>
                    <a:lnTo>
                      <a:pt x="13" y="47"/>
                    </a:lnTo>
                    <a:lnTo>
                      <a:pt x="21" y="35"/>
                    </a:lnTo>
                    <a:lnTo>
                      <a:pt x="30" y="27"/>
                    </a:lnTo>
                    <a:lnTo>
                      <a:pt x="41" y="18"/>
                    </a:lnTo>
                    <a:lnTo>
                      <a:pt x="52" y="11"/>
                    </a:lnTo>
                    <a:lnTo>
                      <a:pt x="65" y="6"/>
                    </a:lnTo>
                    <a:lnTo>
                      <a:pt x="77" y="2"/>
                    </a:lnTo>
                    <a:lnTo>
                      <a:pt x="90" y="0"/>
                    </a:lnTo>
                    <a:lnTo>
                      <a:pt x="103" y="0"/>
                    </a:lnTo>
                    <a:lnTo>
                      <a:pt x="117" y="2"/>
                    </a:lnTo>
                    <a:lnTo>
                      <a:pt x="129" y="6"/>
                    </a:lnTo>
                    <a:lnTo>
                      <a:pt x="141" y="10"/>
                    </a:lnTo>
                    <a:lnTo>
                      <a:pt x="153" y="17"/>
                    </a:lnTo>
                    <a:lnTo>
                      <a:pt x="163" y="24"/>
                    </a:lnTo>
                    <a:lnTo>
                      <a:pt x="172" y="34"/>
                    </a:lnTo>
                    <a:lnTo>
                      <a:pt x="180" y="44"/>
                    </a:lnTo>
                    <a:lnTo>
                      <a:pt x="187" y="57"/>
                    </a:lnTo>
                    <a:lnTo>
                      <a:pt x="191" y="69"/>
                    </a:lnTo>
                    <a:lnTo>
                      <a:pt x="193" y="82"/>
                    </a:lnTo>
                    <a:lnTo>
                      <a:pt x="196" y="95"/>
                    </a:lnTo>
                    <a:lnTo>
                      <a:pt x="194" y="108"/>
                    </a:lnTo>
                    <a:lnTo>
                      <a:pt x="192" y="121"/>
                    </a:lnTo>
                    <a:lnTo>
                      <a:pt x="188" y="133"/>
                    </a:lnTo>
                    <a:lnTo>
                      <a:pt x="182" y="145"/>
                    </a:lnTo>
                    <a:lnTo>
                      <a:pt x="176" y="156"/>
                    </a:lnTo>
                    <a:lnTo>
                      <a:pt x="167" y="166"/>
                    </a:lnTo>
                    <a:lnTo>
                      <a:pt x="157" y="174"/>
                    </a:lnTo>
                    <a:lnTo>
                      <a:pt x="144" y="182"/>
                    </a:lnTo>
                    <a:lnTo>
                      <a:pt x="133" y="188"/>
                    </a:lnTo>
                    <a:lnTo>
                      <a:pt x="120" y="192"/>
                    </a:lnTo>
                    <a:lnTo>
                      <a:pt x="108" y="194"/>
                    </a:lnTo>
                    <a:lnTo>
                      <a:pt x="94" y="194"/>
                    </a:lnTo>
                    <a:lnTo>
                      <a:pt x="81" y="193"/>
                    </a:lnTo>
                    <a:lnTo>
                      <a:pt x="68" y="189"/>
                    </a:lnTo>
                    <a:lnTo>
                      <a:pt x="56" y="184"/>
                    </a:lnTo>
                    <a:lnTo>
                      <a:pt x="44" y="178"/>
                    </a:lnTo>
                    <a:lnTo>
                      <a:pt x="33" y="170"/>
                    </a:lnTo>
                    <a:lnTo>
                      <a:pt x="24" y="161"/>
                    </a:lnTo>
                    <a:lnTo>
                      <a:pt x="17" y="151"/>
                    </a:lnTo>
                    <a:lnTo>
                      <a:pt x="10" y="139"/>
                    </a:lnTo>
                    <a:lnTo>
                      <a:pt x="5" y="128"/>
                    </a:lnTo>
                    <a:lnTo>
                      <a:pt x="1" y="114"/>
                    </a:lnTo>
                    <a:lnTo>
                      <a:pt x="0" y="101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159080" y="5473440"/>
                <a:ext cx="1173240" cy="703800"/>
              </a:xfrm>
              <a:custGeom>
                <a:avLst/>
                <a:gdLst/>
                <a:ahLst/>
                <a:rect l="l" t="t" r="r" b="b"/>
                <a:pathLst>
                  <a:path w="842" h="544">
                    <a:moveTo>
                      <a:pt x="841" y="278"/>
                    </a:moveTo>
                    <a:lnTo>
                      <a:pt x="841" y="0"/>
                    </a:lnTo>
                    <a:lnTo>
                      <a:pt x="0" y="0"/>
                    </a:lnTo>
                    <a:lnTo>
                      <a:pt x="0" y="543"/>
                    </a:lnTo>
                    <a:lnTo>
                      <a:pt x="368" y="543"/>
                    </a:lnTo>
                    <a:lnTo>
                      <a:pt x="368" y="517"/>
                    </a:lnTo>
                    <a:lnTo>
                      <a:pt x="373" y="489"/>
                    </a:lnTo>
                    <a:lnTo>
                      <a:pt x="380" y="462"/>
                    </a:lnTo>
                    <a:lnTo>
                      <a:pt x="389" y="436"/>
                    </a:lnTo>
                    <a:lnTo>
                      <a:pt x="402" y="412"/>
                    </a:lnTo>
                    <a:lnTo>
                      <a:pt x="417" y="389"/>
                    </a:lnTo>
                    <a:lnTo>
                      <a:pt x="434" y="367"/>
                    </a:lnTo>
                    <a:lnTo>
                      <a:pt x="455" y="347"/>
                    </a:lnTo>
                    <a:lnTo>
                      <a:pt x="475" y="329"/>
                    </a:lnTo>
                    <a:lnTo>
                      <a:pt x="498" y="314"/>
                    </a:lnTo>
                    <a:lnTo>
                      <a:pt x="521" y="301"/>
                    </a:lnTo>
                    <a:lnTo>
                      <a:pt x="548" y="291"/>
                    </a:lnTo>
                    <a:lnTo>
                      <a:pt x="574" y="284"/>
                    </a:lnTo>
                    <a:lnTo>
                      <a:pt x="601" y="279"/>
                    </a:lnTo>
                    <a:lnTo>
                      <a:pt x="616" y="278"/>
                    </a:lnTo>
                    <a:lnTo>
                      <a:pt x="841" y="27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022280" y="6175800"/>
                <a:ext cx="650880" cy="78840"/>
              </a:xfrm>
              <a:custGeom>
                <a:avLst/>
                <a:gdLst/>
                <a:ahLst/>
                <a:rect l="l" t="t" r="r" b="b"/>
                <a:pathLst>
                  <a:path w="467" h="61">
                    <a:moveTo>
                      <a:pt x="466" y="0"/>
                    </a:moveTo>
                    <a:lnTo>
                      <a:pt x="466" y="60"/>
                    </a:lnTo>
                    <a:lnTo>
                      <a:pt x="0" y="60"/>
                    </a:lnTo>
                    <a:lnTo>
                      <a:pt x="0" y="0"/>
                    </a:lnTo>
                    <a:lnTo>
                      <a:pt x="46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28120" y="4390920"/>
                <a:ext cx="94680" cy="1255680"/>
              </a:xfrm>
              <a:custGeom>
                <a:avLst/>
                <a:gdLst/>
                <a:ahLst/>
                <a:rect l="l" t="t" r="r" b="b"/>
                <a:pathLst>
                  <a:path w="68" h="971">
                    <a:moveTo>
                      <a:pt x="67" y="0"/>
                    </a:moveTo>
                    <a:lnTo>
                      <a:pt x="67" y="970"/>
                    </a:lnTo>
                    <a:lnTo>
                      <a:pt x="0" y="970"/>
                    </a:lnTo>
                    <a:lnTo>
                      <a:pt x="0" y="0"/>
                    </a:lnTo>
                    <a:lnTo>
                      <a:pt x="67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496600" y="5473440"/>
                <a:ext cx="732600" cy="781200"/>
              </a:xfrm>
              <a:custGeom>
                <a:avLst/>
                <a:gdLst/>
                <a:ahLst/>
                <a:rect l="l" t="t" r="r" b="b"/>
                <a:pathLst>
                  <a:path w="526" h="604">
                    <a:moveTo>
                      <a:pt x="461" y="0"/>
                    </a:moveTo>
                    <a:lnTo>
                      <a:pt x="461" y="543"/>
                    </a:lnTo>
                    <a:lnTo>
                      <a:pt x="0" y="543"/>
                    </a:lnTo>
                    <a:lnTo>
                      <a:pt x="0" y="603"/>
                    </a:lnTo>
                    <a:lnTo>
                      <a:pt x="525" y="603"/>
                    </a:lnTo>
                    <a:lnTo>
                      <a:pt x="525" y="0"/>
                    </a:lnTo>
                    <a:lnTo>
                      <a:pt x="461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637800" y="5303880"/>
                <a:ext cx="522720" cy="375120"/>
              </a:xfrm>
              <a:custGeom>
                <a:avLst/>
                <a:gdLst/>
                <a:ahLst/>
                <a:rect l="l" t="t" r="r" b="b"/>
                <a:pathLst>
                  <a:path w="375" h="290">
                    <a:moveTo>
                      <a:pt x="374" y="289"/>
                    </a:moveTo>
                    <a:lnTo>
                      <a:pt x="55" y="0"/>
                    </a:lnTo>
                    <a:lnTo>
                      <a:pt x="0" y="131"/>
                    </a:lnTo>
                    <a:lnTo>
                      <a:pt x="102" y="131"/>
                    </a:lnTo>
                    <a:lnTo>
                      <a:pt x="102" y="289"/>
                    </a:lnTo>
                    <a:lnTo>
                      <a:pt x="374" y="28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321360" y="5473440"/>
                <a:ext cx="460080" cy="173160"/>
              </a:xfrm>
              <a:custGeom>
                <a:avLst/>
                <a:gdLst/>
                <a:ahLst/>
                <a:rect l="l" t="t" r="r" b="b"/>
                <a:pathLst>
                  <a:path w="330" h="134">
                    <a:moveTo>
                      <a:pt x="329" y="133"/>
                    </a:moveTo>
                    <a:lnTo>
                      <a:pt x="329" y="0"/>
                    </a:lnTo>
                    <a:lnTo>
                      <a:pt x="0" y="0"/>
                    </a:lnTo>
                    <a:lnTo>
                      <a:pt x="0" y="133"/>
                    </a:lnTo>
                    <a:lnTo>
                      <a:pt x="329" y="1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455280" y="4392000"/>
                <a:ext cx="1468800" cy="1257120"/>
              </a:xfrm>
              <a:custGeom>
                <a:avLst/>
                <a:gdLst/>
                <a:ahLst/>
                <a:rect l="l" t="t" r="r" b="b"/>
                <a:pathLst>
                  <a:path w="1054" h="972">
                    <a:moveTo>
                      <a:pt x="1053" y="835"/>
                    </a:moveTo>
                    <a:lnTo>
                      <a:pt x="1053" y="86"/>
                    </a:lnTo>
                    <a:lnTo>
                      <a:pt x="1049" y="64"/>
                    </a:lnTo>
                    <a:lnTo>
                      <a:pt x="1036" y="41"/>
                    </a:lnTo>
                    <a:lnTo>
                      <a:pt x="1023" y="26"/>
                    </a:lnTo>
                    <a:lnTo>
                      <a:pt x="1006" y="13"/>
                    </a:lnTo>
                    <a:lnTo>
                      <a:pt x="979" y="4"/>
                    </a:lnTo>
                    <a:lnTo>
                      <a:pt x="962" y="0"/>
                    </a:lnTo>
                    <a:lnTo>
                      <a:pt x="477" y="0"/>
                    </a:lnTo>
                    <a:lnTo>
                      <a:pt x="442" y="7"/>
                    </a:lnTo>
                    <a:lnTo>
                      <a:pt x="417" y="19"/>
                    </a:lnTo>
                    <a:lnTo>
                      <a:pt x="396" y="41"/>
                    </a:lnTo>
                    <a:lnTo>
                      <a:pt x="387" y="57"/>
                    </a:lnTo>
                    <a:lnTo>
                      <a:pt x="0" y="971"/>
                    </a:lnTo>
                    <a:lnTo>
                      <a:pt x="73" y="971"/>
                    </a:lnTo>
                    <a:lnTo>
                      <a:pt x="448" y="82"/>
                    </a:lnTo>
                    <a:lnTo>
                      <a:pt x="460" y="70"/>
                    </a:lnTo>
                    <a:lnTo>
                      <a:pt x="466" y="67"/>
                    </a:lnTo>
                    <a:lnTo>
                      <a:pt x="480" y="64"/>
                    </a:lnTo>
                    <a:lnTo>
                      <a:pt x="956" y="64"/>
                    </a:lnTo>
                    <a:lnTo>
                      <a:pt x="974" y="70"/>
                    </a:lnTo>
                    <a:lnTo>
                      <a:pt x="982" y="79"/>
                    </a:lnTo>
                    <a:lnTo>
                      <a:pt x="986" y="89"/>
                    </a:lnTo>
                    <a:lnTo>
                      <a:pt x="986" y="105"/>
                    </a:lnTo>
                    <a:lnTo>
                      <a:pt x="986" y="835"/>
                    </a:lnTo>
                    <a:lnTo>
                      <a:pt x="1053" y="83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004280" y="5105880"/>
                <a:ext cx="154800" cy="139320"/>
              </a:xfrm>
              <a:custGeom>
                <a:avLst/>
                <a:gdLst/>
                <a:ahLst/>
                <a:rect l="l" t="t" r="r" b="b"/>
                <a:pathLst>
                  <a:path w="111" h="108">
                    <a:moveTo>
                      <a:pt x="96" y="106"/>
                    </a:moveTo>
                    <a:lnTo>
                      <a:pt x="98" y="107"/>
                    </a:lnTo>
                    <a:lnTo>
                      <a:pt x="103" y="107"/>
                    </a:lnTo>
                    <a:lnTo>
                      <a:pt x="106" y="106"/>
                    </a:lnTo>
                    <a:lnTo>
                      <a:pt x="108" y="101"/>
                    </a:lnTo>
                    <a:lnTo>
                      <a:pt x="110" y="98"/>
                    </a:lnTo>
                    <a:lnTo>
                      <a:pt x="108" y="94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96" y="10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835800" y="5186160"/>
                <a:ext cx="237960" cy="227880"/>
              </a:xfrm>
              <a:custGeom>
                <a:avLst/>
                <a:gdLst/>
                <a:ahLst/>
                <a:rect l="l" t="t" r="r" b="b"/>
                <a:pathLst>
                  <a:path w="171" h="176">
                    <a:moveTo>
                      <a:pt x="0" y="169"/>
                    </a:moveTo>
                    <a:lnTo>
                      <a:pt x="162" y="0"/>
                    </a:lnTo>
                    <a:lnTo>
                      <a:pt x="170" y="10"/>
                    </a:lnTo>
                    <a:lnTo>
                      <a:pt x="10" y="175"/>
                    </a:lnTo>
                    <a:lnTo>
                      <a:pt x="0" y="16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864960" y="4804560"/>
                <a:ext cx="734400" cy="705960"/>
              </a:xfrm>
              <a:custGeom>
                <a:avLst/>
                <a:gdLst/>
                <a:ahLst/>
                <a:rect l="l" t="t" r="r" b="b"/>
                <a:pathLst>
                  <a:path w="527" h="546">
                    <a:moveTo>
                      <a:pt x="348" y="57"/>
                    </a:moveTo>
                    <a:lnTo>
                      <a:pt x="340" y="90"/>
                    </a:lnTo>
                    <a:lnTo>
                      <a:pt x="348" y="90"/>
                    </a:lnTo>
                    <a:lnTo>
                      <a:pt x="353" y="131"/>
                    </a:lnTo>
                    <a:lnTo>
                      <a:pt x="360" y="134"/>
                    </a:lnTo>
                    <a:lnTo>
                      <a:pt x="383" y="136"/>
                    </a:lnTo>
                    <a:lnTo>
                      <a:pt x="387" y="152"/>
                    </a:lnTo>
                    <a:lnTo>
                      <a:pt x="370" y="161"/>
                    </a:lnTo>
                    <a:lnTo>
                      <a:pt x="368" y="181"/>
                    </a:lnTo>
                    <a:lnTo>
                      <a:pt x="303" y="238"/>
                    </a:lnTo>
                    <a:lnTo>
                      <a:pt x="183" y="269"/>
                    </a:lnTo>
                    <a:lnTo>
                      <a:pt x="141" y="269"/>
                    </a:lnTo>
                    <a:lnTo>
                      <a:pt x="131" y="286"/>
                    </a:lnTo>
                    <a:lnTo>
                      <a:pt x="149" y="308"/>
                    </a:lnTo>
                    <a:lnTo>
                      <a:pt x="178" y="308"/>
                    </a:lnTo>
                    <a:lnTo>
                      <a:pt x="198" y="299"/>
                    </a:lnTo>
                    <a:lnTo>
                      <a:pt x="215" y="308"/>
                    </a:lnTo>
                    <a:lnTo>
                      <a:pt x="244" y="308"/>
                    </a:lnTo>
                    <a:lnTo>
                      <a:pt x="342" y="289"/>
                    </a:lnTo>
                    <a:lnTo>
                      <a:pt x="349" y="355"/>
                    </a:lnTo>
                    <a:lnTo>
                      <a:pt x="206" y="397"/>
                    </a:lnTo>
                    <a:lnTo>
                      <a:pt x="70" y="489"/>
                    </a:lnTo>
                    <a:lnTo>
                      <a:pt x="17" y="474"/>
                    </a:lnTo>
                    <a:lnTo>
                      <a:pt x="0" y="482"/>
                    </a:lnTo>
                    <a:lnTo>
                      <a:pt x="65" y="545"/>
                    </a:lnTo>
                    <a:lnTo>
                      <a:pt x="92" y="521"/>
                    </a:lnTo>
                    <a:lnTo>
                      <a:pt x="230" y="468"/>
                    </a:lnTo>
                    <a:lnTo>
                      <a:pt x="215" y="485"/>
                    </a:lnTo>
                    <a:lnTo>
                      <a:pt x="211" y="499"/>
                    </a:lnTo>
                    <a:lnTo>
                      <a:pt x="211" y="517"/>
                    </a:lnTo>
                    <a:lnTo>
                      <a:pt x="526" y="517"/>
                    </a:lnTo>
                    <a:lnTo>
                      <a:pt x="526" y="238"/>
                    </a:lnTo>
                    <a:lnTo>
                      <a:pt x="476" y="238"/>
                    </a:lnTo>
                    <a:lnTo>
                      <a:pt x="466" y="181"/>
                    </a:lnTo>
                    <a:lnTo>
                      <a:pt x="450" y="152"/>
                    </a:lnTo>
                    <a:lnTo>
                      <a:pt x="440" y="125"/>
                    </a:lnTo>
                    <a:lnTo>
                      <a:pt x="432" y="126"/>
                    </a:lnTo>
                    <a:lnTo>
                      <a:pt x="432" y="113"/>
                    </a:lnTo>
                    <a:lnTo>
                      <a:pt x="440" y="88"/>
                    </a:lnTo>
                    <a:lnTo>
                      <a:pt x="442" y="62"/>
                    </a:lnTo>
                    <a:lnTo>
                      <a:pt x="440" y="36"/>
                    </a:lnTo>
                    <a:lnTo>
                      <a:pt x="431" y="14"/>
                    </a:lnTo>
                    <a:lnTo>
                      <a:pt x="416" y="2"/>
                    </a:lnTo>
                    <a:lnTo>
                      <a:pt x="398" y="0"/>
                    </a:lnTo>
                    <a:lnTo>
                      <a:pt x="376" y="0"/>
                    </a:lnTo>
                    <a:lnTo>
                      <a:pt x="359" y="7"/>
                    </a:lnTo>
                    <a:lnTo>
                      <a:pt x="353" y="20"/>
                    </a:lnTo>
                    <a:lnTo>
                      <a:pt x="348" y="47"/>
                    </a:lnTo>
                    <a:lnTo>
                      <a:pt x="313" y="57"/>
                    </a:lnTo>
                    <a:lnTo>
                      <a:pt x="348" y="5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228120" y="5645520"/>
                <a:ext cx="932040" cy="531360"/>
              </a:xfrm>
              <a:custGeom>
                <a:avLst/>
                <a:gdLst/>
                <a:ahLst/>
                <a:rect l="l" t="t" r="r" b="b"/>
                <a:pathLst>
                  <a:path w="669" h="411">
                    <a:moveTo>
                      <a:pt x="668" y="410"/>
                    </a:moveTo>
                    <a:lnTo>
                      <a:pt x="485" y="0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466" y="25"/>
                    </a:lnTo>
                    <a:lnTo>
                      <a:pt x="640" y="410"/>
                    </a:lnTo>
                    <a:lnTo>
                      <a:pt x="668" y="41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414520" y="5640120"/>
                <a:ext cx="668520" cy="508320"/>
              </a:xfrm>
              <a:custGeom>
                <a:avLst/>
                <a:gdLst/>
                <a:ahLst/>
                <a:rect l="l" t="t" r="r" b="b"/>
                <a:pathLst>
                  <a:path w="480" h="393">
                    <a:moveTo>
                      <a:pt x="479" y="392"/>
                    </a:moveTo>
                    <a:lnTo>
                      <a:pt x="479" y="0"/>
                    </a:lnTo>
                    <a:lnTo>
                      <a:pt x="0" y="0"/>
                    </a:lnTo>
                    <a:lnTo>
                      <a:pt x="0" y="392"/>
                    </a:lnTo>
                    <a:lnTo>
                      <a:pt x="479" y="3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414520" y="5134320"/>
                <a:ext cx="668520" cy="507240"/>
              </a:xfrm>
              <a:custGeom>
                <a:avLst/>
                <a:gdLst/>
                <a:ahLst/>
                <a:rect l="l" t="t" r="r" b="b"/>
                <a:pathLst>
                  <a:path w="480" h="392">
                    <a:moveTo>
                      <a:pt x="479" y="391"/>
                    </a:moveTo>
                    <a:lnTo>
                      <a:pt x="479" y="0"/>
                    </a:lnTo>
                    <a:lnTo>
                      <a:pt x="0" y="0"/>
                    </a:lnTo>
                    <a:lnTo>
                      <a:pt x="0" y="391"/>
                    </a:lnTo>
                    <a:lnTo>
                      <a:pt x="479" y="39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414520" y="4631400"/>
                <a:ext cx="668520" cy="506880"/>
              </a:xfrm>
              <a:custGeom>
                <a:avLst/>
                <a:gdLst/>
                <a:ahLst/>
                <a:rect l="l" t="t" r="r" b="b"/>
                <a:pathLst>
                  <a:path w="480" h="392">
                    <a:moveTo>
                      <a:pt x="479" y="391"/>
                    </a:moveTo>
                    <a:lnTo>
                      <a:pt x="479" y="0"/>
                    </a:lnTo>
                    <a:lnTo>
                      <a:pt x="0" y="0"/>
                    </a:lnTo>
                    <a:lnTo>
                      <a:pt x="0" y="391"/>
                    </a:lnTo>
                    <a:lnTo>
                      <a:pt x="479" y="39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044320" y="5941800"/>
                <a:ext cx="253440" cy="468000"/>
              </a:xfrm>
              <a:custGeom>
                <a:avLst/>
                <a:gdLst/>
                <a:ahLst/>
                <a:rect l="l" t="t" r="r" b="b"/>
                <a:pathLst>
                  <a:path w="182" h="362">
                    <a:moveTo>
                      <a:pt x="0" y="97"/>
                    </a:moveTo>
                    <a:lnTo>
                      <a:pt x="14" y="98"/>
                    </a:lnTo>
                    <a:lnTo>
                      <a:pt x="28" y="101"/>
                    </a:lnTo>
                    <a:lnTo>
                      <a:pt x="42" y="108"/>
                    </a:lnTo>
                    <a:lnTo>
                      <a:pt x="54" y="116"/>
                    </a:lnTo>
                    <a:lnTo>
                      <a:pt x="65" y="127"/>
                    </a:lnTo>
                    <a:lnTo>
                      <a:pt x="74" y="140"/>
                    </a:lnTo>
                    <a:lnTo>
                      <a:pt x="81" y="154"/>
                    </a:lnTo>
                    <a:lnTo>
                      <a:pt x="83" y="168"/>
                    </a:lnTo>
                    <a:lnTo>
                      <a:pt x="85" y="182"/>
                    </a:lnTo>
                    <a:lnTo>
                      <a:pt x="83" y="199"/>
                    </a:lnTo>
                    <a:lnTo>
                      <a:pt x="80" y="213"/>
                    </a:lnTo>
                    <a:lnTo>
                      <a:pt x="72" y="226"/>
                    </a:lnTo>
                    <a:lnTo>
                      <a:pt x="63" y="238"/>
                    </a:lnTo>
                    <a:lnTo>
                      <a:pt x="51" y="248"/>
                    </a:lnTo>
                    <a:lnTo>
                      <a:pt x="38" y="256"/>
                    </a:lnTo>
                    <a:lnTo>
                      <a:pt x="25" y="261"/>
                    </a:lnTo>
                    <a:lnTo>
                      <a:pt x="11" y="265"/>
                    </a:lnTo>
                    <a:lnTo>
                      <a:pt x="0" y="265"/>
                    </a:lnTo>
                    <a:lnTo>
                      <a:pt x="0" y="361"/>
                    </a:lnTo>
                    <a:lnTo>
                      <a:pt x="14" y="361"/>
                    </a:lnTo>
                    <a:lnTo>
                      <a:pt x="36" y="359"/>
                    </a:lnTo>
                    <a:lnTo>
                      <a:pt x="57" y="352"/>
                    </a:lnTo>
                    <a:lnTo>
                      <a:pt x="77" y="344"/>
                    </a:lnTo>
                    <a:lnTo>
                      <a:pt x="96" y="334"/>
                    </a:lnTo>
                    <a:lnTo>
                      <a:pt x="115" y="320"/>
                    </a:lnTo>
                    <a:lnTo>
                      <a:pt x="132" y="305"/>
                    </a:lnTo>
                    <a:lnTo>
                      <a:pt x="146" y="288"/>
                    </a:lnTo>
                    <a:lnTo>
                      <a:pt x="157" y="269"/>
                    </a:lnTo>
                    <a:lnTo>
                      <a:pt x="167" y="249"/>
                    </a:lnTo>
                    <a:lnTo>
                      <a:pt x="174" y="228"/>
                    </a:lnTo>
                    <a:lnTo>
                      <a:pt x="180" y="207"/>
                    </a:lnTo>
                    <a:lnTo>
                      <a:pt x="181" y="185"/>
                    </a:lnTo>
                    <a:lnTo>
                      <a:pt x="180" y="162"/>
                    </a:lnTo>
                    <a:lnTo>
                      <a:pt x="176" y="141"/>
                    </a:lnTo>
                    <a:lnTo>
                      <a:pt x="169" y="119"/>
                    </a:lnTo>
                    <a:lnTo>
                      <a:pt x="161" y="99"/>
                    </a:lnTo>
                    <a:lnTo>
                      <a:pt x="150" y="80"/>
                    </a:lnTo>
                    <a:lnTo>
                      <a:pt x="136" y="62"/>
                    </a:lnTo>
                    <a:lnTo>
                      <a:pt x="121" y="47"/>
                    </a:lnTo>
                    <a:lnTo>
                      <a:pt x="103" y="34"/>
                    </a:lnTo>
                    <a:lnTo>
                      <a:pt x="84" y="21"/>
                    </a:lnTo>
                    <a:lnTo>
                      <a:pt x="64" y="14"/>
                    </a:lnTo>
                    <a:lnTo>
                      <a:pt x="43" y="6"/>
                    </a:lnTo>
                    <a:lnTo>
                      <a:pt x="21" y="1"/>
                    </a:lnTo>
                    <a:lnTo>
                      <a:pt x="0" y="0"/>
                    </a:lnTo>
                    <a:lnTo>
                      <a:pt x="0" y="9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793400" y="5941800"/>
                <a:ext cx="253440" cy="468000"/>
              </a:xfrm>
              <a:custGeom>
                <a:avLst/>
                <a:gdLst/>
                <a:ahLst/>
                <a:rect l="l" t="t" r="r" b="b"/>
                <a:pathLst>
                  <a:path w="182" h="362">
                    <a:moveTo>
                      <a:pt x="181" y="97"/>
                    </a:moveTo>
                    <a:lnTo>
                      <a:pt x="165" y="98"/>
                    </a:lnTo>
                    <a:lnTo>
                      <a:pt x="150" y="101"/>
                    </a:lnTo>
                    <a:lnTo>
                      <a:pt x="136" y="108"/>
                    </a:lnTo>
                    <a:lnTo>
                      <a:pt x="124" y="116"/>
                    </a:lnTo>
                    <a:lnTo>
                      <a:pt x="113" y="127"/>
                    </a:lnTo>
                    <a:lnTo>
                      <a:pt x="104" y="140"/>
                    </a:lnTo>
                    <a:lnTo>
                      <a:pt x="98" y="154"/>
                    </a:lnTo>
                    <a:lnTo>
                      <a:pt x="95" y="168"/>
                    </a:lnTo>
                    <a:lnTo>
                      <a:pt x="93" y="182"/>
                    </a:lnTo>
                    <a:lnTo>
                      <a:pt x="96" y="199"/>
                    </a:lnTo>
                    <a:lnTo>
                      <a:pt x="100" y="213"/>
                    </a:lnTo>
                    <a:lnTo>
                      <a:pt x="106" y="226"/>
                    </a:lnTo>
                    <a:lnTo>
                      <a:pt x="116" y="238"/>
                    </a:lnTo>
                    <a:lnTo>
                      <a:pt x="127" y="248"/>
                    </a:lnTo>
                    <a:lnTo>
                      <a:pt x="140" y="256"/>
                    </a:lnTo>
                    <a:lnTo>
                      <a:pt x="154" y="261"/>
                    </a:lnTo>
                    <a:lnTo>
                      <a:pt x="168" y="265"/>
                    </a:lnTo>
                    <a:lnTo>
                      <a:pt x="181" y="265"/>
                    </a:lnTo>
                    <a:lnTo>
                      <a:pt x="181" y="361"/>
                    </a:lnTo>
                    <a:lnTo>
                      <a:pt x="165" y="361"/>
                    </a:lnTo>
                    <a:lnTo>
                      <a:pt x="143" y="359"/>
                    </a:lnTo>
                    <a:lnTo>
                      <a:pt x="122" y="352"/>
                    </a:lnTo>
                    <a:lnTo>
                      <a:pt x="101" y="344"/>
                    </a:lnTo>
                    <a:lnTo>
                      <a:pt x="82" y="334"/>
                    </a:lnTo>
                    <a:lnTo>
                      <a:pt x="63" y="320"/>
                    </a:lnTo>
                    <a:lnTo>
                      <a:pt x="47" y="305"/>
                    </a:lnTo>
                    <a:lnTo>
                      <a:pt x="33" y="288"/>
                    </a:lnTo>
                    <a:lnTo>
                      <a:pt x="22" y="269"/>
                    </a:lnTo>
                    <a:lnTo>
                      <a:pt x="11" y="249"/>
                    </a:lnTo>
                    <a:lnTo>
                      <a:pt x="4" y="228"/>
                    </a:lnTo>
                    <a:lnTo>
                      <a:pt x="1" y="207"/>
                    </a:lnTo>
                    <a:lnTo>
                      <a:pt x="0" y="185"/>
                    </a:lnTo>
                    <a:lnTo>
                      <a:pt x="0" y="162"/>
                    </a:lnTo>
                    <a:lnTo>
                      <a:pt x="3" y="141"/>
                    </a:lnTo>
                    <a:lnTo>
                      <a:pt x="9" y="119"/>
                    </a:lnTo>
                    <a:lnTo>
                      <a:pt x="17" y="99"/>
                    </a:lnTo>
                    <a:lnTo>
                      <a:pt x="28" y="80"/>
                    </a:lnTo>
                    <a:lnTo>
                      <a:pt x="43" y="62"/>
                    </a:lnTo>
                    <a:lnTo>
                      <a:pt x="57" y="47"/>
                    </a:lnTo>
                    <a:lnTo>
                      <a:pt x="75" y="34"/>
                    </a:lnTo>
                    <a:lnTo>
                      <a:pt x="94" y="21"/>
                    </a:lnTo>
                    <a:lnTo>
                      <a:pt x="115" y="14"/>
                    </a:lnTo>
                    <a:lnTo>
                      <a:pt x="136" y="6"/>
                    </a:lnTo>
                    <a:lnTo>
                      <a:pt x="157" y="1"/>
                    </a:lnTo>
                    <a:lnTo>
                      <a:pt x="181" y="0"/>
                    </a:lnTo>
                    <a:lnTo>
                      <a:pt x="181" y="9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625560" y="5761800"/>
                <a:ext cx="348120" cy="641520"/>
              </a:xfrm>
              <a:custGeom>
                <a:avLst/>
                <a:gdLst/>
                <a:ahLst/>
                <a:rect l="l" t="t" r="r" b="b"/>
                <a:pathLst>
                  <a:path w="250" h="496">
                    <a:moveTo>
                      <a:pt x="0" y="108"/>
                    </a:moveTo>
                    <a:lnTo>
                      <a:pt x="19" y="109"/>
                    </a:lnTo>
                    <a:lnTo>
                      <a:pt x="39" y="114"/>
                    </a:lnTo>
                    <a:lnTo>
                      <a:pt x="56" y="120"/>
                    </a:lnTo>
                    <a:lnTo>
                      <a:pt x="73" y="129"/>
                    </a:lnTo>
                    <a:lnTo>
                      <a:pt x="89" y="140"/>
                    </a:lnTo>
                    <a:lnTo>
                      <a:pt x="103" y="155"/>
                    </a:lnTo>
                    <a:lnTo>
                      <a:pt x="115" y="169"/>
                    </a:lnTo>
                    <a:lnTo>
                      <a:pt x="125" y="186"/>
                    </a:lnTo>
                    <a:lnTo>
                      <a:pt x="133" y="204"/>
                    </a:lnTo>
                    <a:lnTo>
                      <a:pt x="138" y="222"/>
                    </a:lnTo>
                    <a:lnTo>
                      <a:pt x="140" y="241"/>
                    </a:lnTo>
                    <a:lnTo>
                      <a:pt x="139" y="261"/>
                    </a:lnTo>
                    <a:lnTo>
                      <a:pt x="135" y="280"/>
                    </a:lnTo>
                    <a:lnTo>
                      <a:pt x="130" y="299"/>
                    </a:lnTo>
                    <a:lnTo>
                      <a:pt x="122" y="317"/>
                    </a:lnTo>
                    <a:lnTo>
                      <a:pt x="111" y="333"/>
                    </a:lnTo>
                    <a:lnTo>
                      <a:pt x="99" y="348"/>
                    </a:lnTo>
                    <a:lnTo>
                      <a:pt x="83" y="360"/>
                    </a:lnTo>
                    <a:lnTo>
                      <a:pt x="66" y="370"/>
                    </a:lnTo>
                    <a:lnTo>
                      <a:pt x="51" y="379"/>
                    </a:lnTo>
                    <a:lnTo>
                      <a:pt x="31" y="385"/>
                    </a:lnTo>
                    <a:lnTo>
                      <a:pt x="11" y="388"/>
                    </a:lnTo>
                    <a:lnTo>
                      <a:pt x="0" y="388"/>
                    </a:lnTo>
                    <a:lnTo>
                      <a:pt x="0" y="495"/>
                    </a:lnTo>
                    <a:lnTo>
                      <a:pt x="4" y="495"/>
                    </a:lnTo>
                    <a:lnTo>
                      <a:pt x="29" y="494"/>
                    </a:lnTo>
                    <a:lnTo>
                      <a:pt x="55" y="488"/>
                    </a:lnTo>
                    <a:lnTo>
                      <a:pt x="80" y="483"/>
                    </a:lnTo>
                    <a:lnTo>
                      <a:pt x="104" y="473"/>
                    </a:lnTo>
                    <a:lnTo>
                      <a:pt x="127" y="460"/>
                    </a:lnTo>
                    <a:lnTo>
                      <a:pt x="149" y="447"/>
                    </a:lnTo>
                    <a:lnTo>
                      <a:pt x="169" y="430"/>
                    </a:lnTo>
                    <a:lnTo>
                      <a:pt x="188" y="411"/>
                    </a:lnTo>
                    <a:lnTo>
                      <a:pt x="204" y="392"/>
                    </a:lnTo>
                    <a:lnTo>
                      <a:pt x="216" y="370"/>
                    </a:lnTo>
                    <a:lnTo>
                      <a:pt x="229" y="347"/>
                    </a:lnTo>
                    <a:lnTo>
                      <a:pt x="237" y="322"/>
                    </a:lnTo>
                    <a:lnTo>
                      <a:pt x="244" y="298"/>
                    </a:lnTo>
                    <a:lnTo>
                      <a:pt x="249" y="272"/>
                    </a:lnTo>
                    <a:lnTo>
                      <a:pt x="249" y="246"/>
                    </a:lnTo>
                    <a:lnTo>
                      <a:pt x="248" y="220"/>
                    </a:lnTo>
                    <a:lnTo>
                      <a:pt x="243" y="195"/>
                    </a:lnTo>
                    <a:lnTo>
                      <a:pt x="237" y="170"/>
                    </a:lnTo>
                    <a:lnTo>
                      <a:pt x="228" y="146"/>
                    </a:lnTo>
                    <a:lnTo>
                      <a:pt x="215" y="123"/>
                    </a:lnTo>
                    <a:lnTo>
                      <a:pt x="201" y="102"/>
                    </a:lnTo>
                    <a:lnTo>
                      <a:pt x="183" y="81"/>
                    </a:lnTo>
                    <a:lnTo>
                      <a:pt x="166" y="62"/>
                    </a:lnTo>
                    <a:lnTo>
                      <a:pt x="146" y="47"/>
                    </a:lnTo>
                    <a:lnTo>
                      <a:pt x="123" y="34"/>
                    </a:lnTo>
                    <a:lnTo>
                      <a:pt x="100" y="21"/>
                    </a:lnTo>
                    <a:lnTo>
                      <a:pt x="75" y="14"/>
                    </a:lnTo>
                    <a:lnTo>
                      <a:pt x="51" y="7"/>
                    </a:lnTo>
                    <a:lnTo>
                      <a:pt x="25" y="3"/>
                    </a:lnTo>
                    <a:lnTo>
                      <a:pt x="0" y="0"/>
                    </a:lnTo>
                    <a:lnTo>
                      <a:pt x="0" y="10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282480" y="5761800"/>
                <a:ext cx="349560" cy="641520"/>
              </a:xfrm>
              <a:custGeom>
                <a:avLst/>
                <a:gdLst/>
                <a:ahLst/>
                <a:rect l="l" t="t" r="r" b="b"/>
                <a:pathLst>
                  <a:path w="251" h="496">
                    <a:moveTo>
                      <a:pt x="250" y="108"/>
                    </a:moveTo>
                    <a:lnTo>
                      <a:pt x="231" y="108"/>
                    </a:lnTo>
                    <a:lnTo>
                      <a:pt x="211" y="113"/>
                    </a:lnTo>
                    <a:lnTo>
                      <a:pt x="192" y="120"/>
                    </a:lnTo>
                    <a:lnTo>
                      <a:pt x="176" y="128"/>
                    </a:lnTo>
                    <a:lnTo>
                      <a:pt x="160" y="139"/>
                    </a:lnTo>
                    <a:lnTo>
                      <a:pt x="146" y="154"/>
                    </a:lnTo>
                    <a:lnTo>
                      <a:pt x="135" y="168"/>
                    </a:lnTo>
                    <a:lnTo>
                      <a:pt x="125" y="185"/>
                    </a:lnTo>
                    <a:lnTo>
                      <a:pt x="117" y="204"/>
                    </a:lnTo>
                    <a:lnTo>
                      <a:pt x="111" y="222"/>
                    </a:lnTo>
                    <a:lnTo>
                      <a:pt x="109" y="240"/>
                    </a:lnTo>
                    <a:lnTo>
                      <a:pt x="110" y="260"/>
                    </a:lnTo>
                    <a:lnTo>
                      <a:pt x="114" y="280"/>
                    </a:lnTo>
                    <a:lnTo>
                      <a:pt x="119" y="298"/>
                    </a:lnTo>
                    <a:lnTo>
                      <a:pt x="128" y="317"/>
                    </a:lnTo>
                    <a:lnTo>
                      <a:pt x="138" y="332"/>
                    </a:lnTo>
                    <a:lnTo>
                      <a:pt x="150" y="347"/>
                    </a:lnTo>
                    <a:lnTo>
                      <a:pt x="165" y="359"/>
                    </a:lnTo>
                    <a:lnTo>
                      <a:pt x="182" y="369"/>
                    </a:lnTo>
                    <a:lnTo>
                      <a:pt x="199" y="378"/>
                    </a:lnTo>
                    <a:lnTo>
                      <a:pt x="218" y="384"/>
                    </a:lnTo>
                    <a:lnTo>
                      <a:pt x="238" y="387"/>
                    </a:lnTo>
                    <a:lnTo>
                      <a:pt x="250" y="387"/>
                    </a:lnTo>
                    <a:lnTo>
                      <a:pt x="250" y="494"/>
                    </a:lnTo>
                    <a:lnTo>
                      <a:pt x="246" y="495"/>
                    </a:lnTo>
                    <a:lnTo>
                      <a:pt x="219" y="493"/>
                    </a:lnTo>
                    <a:lnTo>
                      <a:pt x="195" y="488"/>
                    </a:lnTo>
                    <a:lnTo>
                      <a:pt x="170" y="481"/>
                    </a:lnTo>
                    <a:lnTo>
                      <a:pt x="145" y="473"/>
                    </a:lnTo>
                    <a:lnTo>
                      <a:pt x="123" y="460"/>
                    </a:lnTo>
                    <a:lnTo>
                      <a:pt x="100" y="446"/>
                    </a:lnTo>
                    <a:lnTo>
                      <a:pt x="80" y="430"/>
                    </a:lnTo>
                    <a:lnTo>
                      <a:pt x="62" y="410"/>
                    </a:lnTo>
                    <a:lnTo>
                      <a:pt x="46" y="390"/>
                    </a:lnTo>
                    <a:lnTo>
                      <a:pt x="32" y="369"/>
                    </a:lnTo>
                    <a:lnTo>
                      <a:pt x="20" y="346"/>
                    </a:lnTo>
                    <a:lnTo>
                      <a:pt x="11" y="321"/>
                    </a:lnTo>
                    <a:lnTo>
                      <a:pt x="5" y="297"/>
                    </a:lnTo>
                    <a:lnTo>
                      <a:pt x="0" y="270"/>
                    </a:lnTo>
                    <a:lnTo>
                      <a:pt x="0" y="245"/>
                    </a:lnTo>
                    <a:lnTo>
                      <a:pt x="1" y="219"/>
                    </a:lnTo>
                    <a:lnTo>
                      <a:pt x="6" y="195"/>
                    </a:lnTo>
                    <a:lnTo>
                      <a:pt x="14" y="169"/>
                    </a:lnTo>
                    <a:lnTo>
                      <a:pt x="22" y="146"/>
                    </a:lnTo>
                    <a:lnTo>
                      <a:pt x="34" y="123"/>
                    </a:lnTo>
                    <a:lnTo>
                      <a:pt x="48" y="100"/>
                    </a:lnTo>
                    <a:lnTo>
                      <a:pt x="66" y="80"/>
                    </a:lnTo>
                    <a:lnTo>
                      <a:pt x="83" y="61"/>
                    </a:lnTo>
                    <a:lnTo>
                      <a:pt x="104" y="47"/>
                    </a:lnTo>
                    <a:lnTo>
                      <a:pt x="126" y="33"/>
                    </a:lnTo>
                    <a:lnTo>
                      <a:pt x="149" y="20"/>
                    </a:lnTo>
                    <a:lnTo>
                      <a:pt x="174" y="13"/>
                    </a:lnTo>
                    <a:lnTo>
                      <a:pt x="198" y="6"/>
                    </a:lnTo>
                    <a:lnTo>
                      <a:pt x="223" y="1"/>
                    </a:lnTo>
                    <a:lnTo>
                      <a:pt x="250" y="0"/>
                    </a:lnTo>
                    <a:lnTo>
                      <a:pt x="250" y="10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126400" y="5841000"/>
                <a:ext cx="0" cy="15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3934800" y="6178680"/>
                <a:ext cx="86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3205800" y="6178680"/>
                <a:ext cx="10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5607720" y="4722840"/>
              <a:ext cx="3048480" cy="14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99"/>
                  </a:solidFill>
                  <a:latin typeface="Times New Roman"/>
                </a:rPr>
                <a:t>Roundabout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99"/>
                  </a:solidFill>
                  <a:latin typeface="Times New Roman"/>
                </a:rPr>
                <a:t>Productio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7" dur="1" fill="hold"/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870120" y="957240"/>
            <a:ext cx="62226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Brush Script MT"/>
              </a:rPr>
              <a:t>Other Characteristic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128680" y="2092320"/>
            <a:ext cx="6662880" cy="2089080"/>
            <a:chOff x="2128680" y="2092320"/>
            <a:chExt cx="6662880" cy="2089080"/>
          </a:xfrm>
        </p:grpSpPr>
        <p:sp>
          <p:nvSpPr>
            <p:cNvPr id="217" name=""/>
            <p:cNvSpPr/>
            <p:nvPr/>
          </p:nvSpPr>
          <p:spPr>
            <a:xfrm>
              <a:off x="2128680" y="3262320"/>
              <a:ext cx="6662880" cy="919080"/>
            </a:xfrm>
            <a:custGeom>
              <a:avLst/>
              <a:gdLst/>
              <a:ahLst/>
              <a:rect l="l" t="t" r="r" b="b"/>
              <a:pathLst>
                <a:path w="4701" h="579">
                  <a:moveTo>
                    <a:pt x="0" y="0"/>
                  </a:moveTo>
                  <a:lnTo>
                    <a:pt x="2349" y="578"/>
                  </a:lnTo>
                  <a:lnTo>
                    <a:pt x="470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128680" y="2197080"/>
              <a:ext cx="6662880" cy="1066680"/>
            </a:xfrm>
            <a:custGeom>
              <a:avLst/>
              <a:gdLst/>
              <a:ahLst/>
              <a:rect l="l" t="t" r="r" b="b"/>
              <a:pathLst>
                <a:path w="4701" h="672">
                  <a:moveTo>
                    <a:pt x="0" y="671"/>
                  </a:moveTo>
                  <a:lnTo>
                    <a:pt x="0" y="0"/>
                  </a:lnTo>
                  <a:lnTo>
                    <a:pt x="4700" y="0"/>
                  </a:lnTo>
                  <a:lnTo>
                    <a:pt x="4700" y="671"/>
                  </a:lnTo>
                  <a:lnTo>
                    <a:pt x="0" y="671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71840" y="2092320"/>
              <a:ext cx="574992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</a:rPr>
                <a:t>Reliance on Technolog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</a:rPr>
                <a:t>and Capital Good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138400" y="3639960"/>
            <a:ext cx="6662880" cy="1070280"/>
            <a:chOff x="2138400" y="3639960"/>
            <a:chExt cx="6662880" cy="1070280"/>
          </a:xfrm>
        </p:grpSpPr>
        <p:sp>
          <p:nvSpPr>
            <p:cNvPr id="221" name=""/>
            <p:cNvSpPr/>
            <p:nvPr/>
          </p:nvSpPr>
          <p:spPr>
            <a:xfrm>
              <a:off x="2138400" y="3639960"/>
              <a:ext cx="6662880" cy="1070280"/>
            </a:xfrm>
            <a:custGeom>
              <a:avLst/>
              <a:gdLst/>
              <a:ahLst/>
              <a:rect l="l" t="t" r="r" b="b"/>
              <a:pathLst>
                <a:path w="4701" h="674">
                  <a:moveTo>
                    <a:pt x="0" y="673"/>
                  </a:moveTo>
                  <a:lnTo>
                    <a:pt x="0" y="0"/>
                  </a:lnTo>
                  <a:lnTo>
                    <a:pt x="4700" y="0"/>
                  </a:lnTo>
                  <a:lnTo>
                    <a:pt x="4700" y="673"/>
                  </a:lnTo>
                  <a:lnTo>
                    <a:pt x="0" y="673"/>
                  </a:lnTo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cc99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143080" y="3859200"/>
              <a:ext cx="65563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</a:rPr>
                <a:t>Specialization and Efficienc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1996200" y="247680"/>
            <a:ext cx="6816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APITALIST IDE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870120" y="957240"/>
            <a:ext cx="62226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Brush Script MT"/>
              </a:rPr>
              <a:t>Other Characteristic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128680" y="2092320"/>
            <a:ext cx="6662880" cy="2089080"/>
            <a:chOff x="2128680" y="2092320"/>
            <a:chExt cx="6662880" cy="2089080"/>
          </a:xfrm>
        </p:grpSpPr>
        <p:sp>
          <p:nvSpPr>
            <p:cNvPr id="226" name=""/>
            <p:cNvSpPr/>
            <p:nvPr/>
          </p:nvSpPr>
          <p:spPr>
            <a:xfrm>
              <a:off x="2128680" y="3262320"/>
              <a:ext cx="6662880" cy="919080"/>
            </a:xfrm>
            <a:custGeom>
              <a:avLst/>
              <a:gdLst/>
              <a:ahLst/>
              <a:rect l="l" t="t" r="r" b="b"/>
              <a:pathLst>
                <a:path w="4701" h="579">
                  <a:moveTo>
                    <a:pt x="0" y="0"/>
                  </a:moveTo>
                  <a:lnTo>
                    <a:pt x="2349" y="578"/>
                  </a:lnTo>
                  <a:lnTo>
                    <a:pt x="470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28680" y="2197080"/>
              <a:ext cx="6662880" cy="1066680"/>
            </a:xfrm>
            <a:custGeom>
              <a:avLst/>
              <a:gdLst/>
              <a:ahLst/>
              <a:rect l="l" t="t" r="r" b="b"/>
              <a:pathLst>
                <a:path w="4701" h="672">
                  <a:moveTo>
                    <a:pt x="0" y="671"/>
                  </a:moveTo>
                  <a:lnTo>
                    <a:pt x="0" y="0"/>
                  </a:lnTo>
                  <a:lnTo>
                    <a:pt x="4700" y="0"/>
                  </a:lnTo>
                  <a:lnTo>
                    <a:pt x="4700" y="671"/>
                  </a:lnTo>
                  <a:lnTo>
                    <a:pt x="0" y="671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71840" y="2092320"/>
              <a:ext cx="574992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</a:rPr>
                <a:t>Reliance on Technolog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</a:rPr>
                <a:t>and Capital Good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138400" y="3639960"/>
            <a:ext cx="6662880" cy="1070280"/>
            <a:chOff x="2138400" y="3639960"/>
            <a:chExt cx="6662880" cy="1070280"/>
          </a:xfrm>
        </p:grpSpPr>
        <p:sp>
          <p:nvSpPr>
            <p:cNvPr id="230" name=""/>
            <p:cNvSpPr/>
            <p:nvPr/>
          </p:nvSpPr>
          <p:spPr>
            <a:xfrm>
              <a:off x="2138400" y="3639960"/>
              <a:ext cx="6662880" cy="1070280"/>
            </a:xfrm>
            <a:custGeom>
              <a:avLst/>
              <a:gdLst/>
              <a:ahLst/>
              <a:rect l="l" t="t" r="r" b="b"/>
              <a:pathLst>
                <a:path w="4701" h="674">
                  <a:moveTo>
                    <a:pt x="0" y="673"/>
                  </a:moveTo>
                  <a:lnTo>
                    <a:pt x="0" y="0"/>
                  </a:lnTo>
                  <a:lnTo>
                    <a:pt x="4700" y="0"/>
                  </a:lnTo>
                  <a:lnTo>
                    <a:pt x="4700" y="673"/>
                  </a:lnTo>
                  <a:lnTo>
                    <a:pt x="0" y="673"/>
                  </a:lnTo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cc99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43080" y="3859200"/>
              <a:ext cx="65563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</a:rPr>
                <a:t>Specialization and Efficienc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768760" y="4673520"/>
            <a:ext cx="5346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Division of Lab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879560" y="5165640"/>
          <a:ext cx="1832040" cy="140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5165640"/>
                    <a:ext cx="1832040" cy="14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4505400" y="5278320"/>
          <a:ext cx="1009440" cy="153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5400" y="5278320"/>
                    <a:ext cx="100944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6234120" y="5113440"/>
          <a:ext cx="2195640" cy="12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34120" y="5113440"/>
                    <a:ext cx="2195640" cy="12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1996200" y="247680"/>
            <a:ext cx="6816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APITALIST IDE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7"/>
          <a:stretch/>
        </p:blipFill>
        <p:spPr>
          <a:xfrm>
            <a:off x="8356680" y="4919760"/>
            <a:ext cx="29844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870120" y="957240"/>
            <a:ext cx="62226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Brush Script MT"/>
              </a:rPr>
              <a:t>Other Characteristic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128680" y="2092320"/>
            <a:ext cx="6662880" cy="2089080"/>
            <a:chOff x="2128680" y="2092320"/>
            <a:chExt cx="6662880" cy="2089080"/>
          </a:xfrm>
        </p:grpSpPr>
        <p:sp>
          <p:nvSpPr>
            <p:cNvPr id="243" name=""/>
            <p:cNvSpPr/>
            <p:nvPr/>
          </p:nvSpPr>
          <p:spPr>
            <a:xfrm>
              <a:off x="2128680" y="3262320"/>
              <a:ext cx="6662880" cy="919080"/>
            </a:xfrm>
            <a:custGeom>
              <a:avLst/>
              <a:gdLst/>
              <a:ahLst/>
              <a:rect l="l" t="t" r="r" b="b"/>
              <a:pathLst>
                <a:path w="4701" h="579">
                  <a:moveTo>
                    <a:pt x="0" y="0"/>
                  </a:moveTo>
                  <a:lnTo>
                    <a:pt x="2349" y="578"/>
                  </a:lnTo>
                  <a:lnTo>
                    <a:pt x="470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28680" y="2197080"/>
              <a:ext cx="6662880" cy="1066680"/>
            </a:xfrm>
            <a:custGeom>
              <a:avLst/>
              <a:gdLst/>
              <a:ahLst/>
              <a:rect l="l" t="t" r="r" b="b"/>
              <a:pathLst>
                <a:path w="4701" h="672">
                  <a:moveTo>
                    <a:pt x="0" y="671"/>
                  </a:moveTo>
                  <a:lnTo>
                    <a:pt x="0" y="0"/>
                  </a:lnTo>
                  <a:lnTo>
                    <a:pt x="4700" y="0"/>
                  </a:lnTo>
                  <a:lnTo>
                    <a:pt x="4700" y="671"/>
                  </a:lnTo>
                  <a:lnTo>
                    <a:pt x="0" y="671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71840" y="2092320"/>
              <a:ext cx="574992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</a:rPr>
                <a:t>Reliance on Technolog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</a:rPr>
                <a:t>and Capital Good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138400" y="3639960"/>
            <a:ext cx="6662880" cy="1070280"/>
            <a:chOff x="2138400" y="3639960"/>
            <a:chExt cx="6662880" cy="1070280"/>
          </a:xfrm>
        </p:grpSpPr>
        <p:sp>
          <p:nvSpPr>
            <p:cNvPr id="247" name=""/>
            <p:cNvSpPr/>
            <p:nvPr/>
          </p:nvSpPr>
          <p:spPr>
            <a:xfrm>
              <a:off x="2138400" y="3639960"/>
              <a:ext cx="6662880" cy="1070280"/>
            </a:xfrm>
            <a:custGeom>
              <a:avLst/>
              <a:gdLst/>
              <a:ahLst/>
              <a:rect l="l" t="t" r="r" b="b"/>
              <a:pathLst>
                <a:path w="4701" h="674">
                  <a:moveTo>
                    <a:pt x="0" y="673"/>
                  </a:moveTo>
                  <a:lnTo>
                    <a:pt x="0" y="0"/>
                  </a:lnTo>
                  <a:lnTo>
                    <a:pt x="4700" y="0"/>
                  </a:lnTo>
                  <a:lnTo>
                    <a:pt x="4700" y="673"/>
                  </a:lnTo>
                  <a:lnTo>
                    <a:pt x="0" y="673"/>
                  </a:lnTo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cc99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43080" y="3859200"/>
              <a:ext cx="65563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</a:rPr>
                <a:t>Specialization and Efficienc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135160" y="4673520"/>
            <a:ext cx="6610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cc0000"/>
                </a:solidFill>
                <a:latin typeface="Times New Roman"/>
              </a:rPr>
              <a:t>Differences in Abilit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cc0000"/>
                </a:solidFill>
                <a:latin typeface="Times New Roman"/>
              </a:rPr>
              <a:t>Fosters Learning by Doin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cc0000"/>
                </a:solidFill>
                <a:latin typeface="Times New Roman"/>
              </a:rPr>
              <a:t>Saves Tim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96200" y="247680"/>
            <a:ext cx="6816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APITALIST IDE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4T20:43:40Z</dcterms:created>
  <dc:creator>Norman Hollingsworth</dc:creator>
  <dc:description>Copyright McGraw-Hil/Irwinl Inc., 2005</dc:description>
  <dc:language>en-US</dc:language>
  <cp:lastModifiedBy>MHE</cp:lastModifiedBy>
  <cp:lastPrinted>1998-02-25T16:28:47Z</cp:lastPrinted>
  <dcterms:modified xsi:type="dcterms:W3CDTF">2003-11-17T18:59:46Z</dcterms:modified>
  <cp:revision>290</cp:revision>
  <dc:subject>McConnell-Brue 16/e</dc:subject>
  <dc:title>Chapter 4</dc:title>
</cp:coreProperties>
</file>